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3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в 1 полугодии 2018 года,   
(тыс. рублей)</a:t>
            </a:r>
          </a:p>
        </c:rich>
      </c:tx>
      <c:layout>
        <c:manualLayout>
          <c:xMode val="edge"/>
          <c:yMode val="edge"/>
          <c:x val="0.0938188976377953"/>
          <c:y val="0.0123637642095394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36220472440945"/>
          <c:y val="0.156275635767022"/>
          <c:w val="0.844409448818898"/>
          <c:h val="0.7409469119887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руктура доходов в 2017 году</c:v>
                </c:pt>
              </c:strCache>
            </c:strRef>
          </c:tx>
          <c:spPr>
            <a:solidFill>
              <a:srgbClr val="b83d68"/>
            </a:solidFill>
            <a:ln w="9360">
              <a:solidFill>
                <a:srgbClr val="652038"/>
              </a:solidFill>
              <a:round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9360">
                <a:solidFill>
                  <a:srgbClr val="652038"/>
                </a:solidFill>
                <a:round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9360">
                <a:solidFill>
                  <a:srgbClr val="652038"/>
                </a:solidFill>
                <a:round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9360">
                <a:solidFill>
                  <a:srgbClr val="652038"/>
                </a:solidFill>
                <a:round/>
              </a:ln>
            </c:spPr>
          </c:dPt>
          <c:dLbls>
            <c:numFmt formatCode="#,##0.0" sourceLinked="1"/>
            <c:dLbl>
              <c:idx val="0"/>
              <c:numFmt formatCode="#,##0.0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Налоговые 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доходы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6 280,2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40,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1"/>
              <c:numFmt formatCode="#,##0.0" sourceLinked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Неналоговые 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доходы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804,9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5,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dLbl>
              <c:idx val="2"/>
              <c:numFmt formatCode="#,##0.0" sourceLinked="1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Arial Black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 Безвозмездные 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поступления
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8 284,3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
</a:t>
                    </a: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Arial Black"/>
                      </a:rPr>
                      <a:t>53,9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 Black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3"/>
                <c:pt idx="0">
                  <c:v>Налоговые доходы</c:v>
                </c:pt>
                <c:pt idx="1">
                  <c:v>Неналоговые доходы</c:v>
                </c:pt>
                <c:pt idx="2">
                  <c:v>Безвозмездные поступлени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280.2</c:v>
                </c:pt>
                <c:pt idx="1">
                  <c:v>804.9</c:v>
                </c:pt>
                <c:pt idx="2">
                  <c:v>8284.3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297086614173228"/>
          <c:y val="0.0309836371554781"/>
          <c:w val="0.640905511811024"/>
          <c:h val="0.808125427735955"/>
        </c:manualLayout>
      </c:layout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 полугодие 2017</c:v>
                </c:pt>
              </c:strCache>
            </c:strRef>
          </c:tx>
          <c:spPr>
            <a:solidFill>
              <a:srgbClr val="fe8637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компенсация расходов государства, внебюджет </c:v>
                </c:pt>
                <c:pt idx="1">
                  <c:v>единый налог с/х</c:v>
                </c:pt>
                <c:pt idx="2">
                  <c:v>налог при упрощенной системе</c:v>
                </c:pt>
                <c:pt idx="3">
                  <c:v>налог на недвижимость</c:v>
                </c:pt>
                <c:pt idx="4">
                  <c:v>налог на землю</c:v>
                </c:pt>
                <c:pt idx="5">
                  <c:v>НДС</c:v>
                </c:pt>
                <c:pt idx="6">
                  <c:v>подоходный налог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362.8</c:v>
                </c:pt>
                <c:pt idx="1">
                  <c:v>113.8</c:v>
                </c:pt>
                <c:pt idx="2">
                  <c:v>203.4</c:v>
                </c:pt>
                <c:pt idx="3">
                  <c:v>827.5</c:v>
                </c:pt>
                <c:pt idx="4">
                  <c:v>372</c:v>
                </c:pt>
                <c:pt idx="5">
                  <c:v>965.3</c:v>
                </c:pt>
                <c:pt idx="6">
                  <c:v>2326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 полугодие 2018</c:v>
                </c:pt>
              </c:strCache>
            </c:strRef>
          </c:tx>
          <c:spPr>
            <a:solidFill>
              <a:srgbClr val="7598d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7"/>
                <c:pt idx="0">
                  <c:v>компенсация расходов государства, внебюджет </c:v>
                </c:pt>
                <c:pt idx="1">
                  <c:v>единый налог с/х</c:v>
                </c:pt>
                <c:pt idx="2">
                  <c:v>налог при упрощенной системе</c:v>
                </c:pt>
                <c:pt idx="3">
                  <c:v>налог на недвижимость</c:v>
                </c:pt>
                <c:pt idx="4">
                  <c:v>налог на землю</c:v>
                </c:pt>
                <c:pt idx="5">
                  <c:v>НДС</c:v>
                </c:pt>
                <c:pt idx="6">
                  <c:v>подоходный налог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420.5</c:v>
                </c:pt>
                <c:pt idx="1">
                  <c:v>138</c:v>
                </c:pt>
                <c:pt idx="2">
                  <c:v>242.1</c:v>
                </c:pt>
                <c:pt idx="3">
                  <c:v>950.2</c:v>
                </c:pt>
                <c:pt idx="4">
                  <c:v>919.3</c:v>
                </c:pt>
                <c:pt idx="5">
                  <c:v>1082.2</c:v>
                </c:pt>
                <c:pt idx="6">
                  <c:v>2821.9</c:v>
                </c:pt>
              </c:numCache>
            </c:numRef>
          </c:val>
        </c:ser>
        <c:gapWidth val="150"/>
        <c:overlap val="0"/>
        <c:axId val="40489331"/>
        <c:axId val="15487364"/>
      </c:barChart>
      <c:catAx>
        <c:axId val="40489331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15487364"/>
        <c:crosses val="autoZero"/>
        <c:auto val="1"/>
        <c:lblAlgn val="ctr"/>
        <c:lblOffset val="100"/>
        <c:noMultiLvlLbl val="0"/>
      </c:catAx>
      <c:valAx>
        <c:axId val="15487364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40489331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Franklin Gothic 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1-е полугодие 2017</c:v>
                </c:pt>
              </c:strCache>
            </c:strRef>
          </c:tx>
          <c:spPr>
            <a:solidFill>
              <a:srgbClr val="fe8637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единый налог с индив. предпринимателей</c:v>
                </c:pt>
                <c:pt idx="1">
                  <c:v>налог  на недвижимость за незавершенное строительство</c:v>
                </c:pt>
                <c:pt idx="2">
                  <c:v>налог на прибыль</c:v>
                </c:pt>
                <c:pt idx="3">
                  <c:v>доходы от приватизации 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0.9</c:v>
                </c:pt>
                <c:pt idx="1">
                  <c:v>17.3</c:v>
                </c:pt>
                <c:pt idx="2">
                  <c:v>47.5</c:v>
                </c:pt>
                <c:pt idx="3">
                  <c:v>10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1-е полугодие 2018</c:v>
                </c:pt>
              </c:strCache>
            </c:strRef>
          </c:tx>
          <c:spPr>
            <a:solidFill>
              <a:srgbClr val="7598d9"/>
            </a:solidFill>
            <a:ln w="0">
              <a:noFill/>
            </a:ln>
          </c:spPr>
          <c:invertIfNegative val="0"/>
          <c:dLbls>
            <c:numFmt formatCode="General" sourceLinked="0"/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4"/>
                <c:pt idx="0">
                  <c:v>единый налог с индив. предпринимателей</c:v>
                </c:pt>
                <c:pt idx="1">
                  <c:v>налог  на недвижимость за незавершенное строительство</c:v>
                </c:pt>
                <c:pt idx="2">
                  <c:v>налог на прибыль</c:v>
                </c:pt>
                <c:pt idx="3">
                  <c:v>доходы от приватизации 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7.6</c:v>
                </c:pt>
                <c:pt idx="1">
                  <c:v>1</c:v>
                </c:pt>
                <c:pt idx="2">
                  <c:v>30.1</c:v>
                </c:pt>
                <c:pt idx="3">
                  <c:v>65.4</c:v>
                </c:pt>
              </c:numCache>
            </c:numRef>
          </c:val>
        </c:ser>
        <c:gapWidth val="150"/>
        <c:overlap val="0"/>
        <c:axId val="3721851"/>
        <c:axId val="98672439"/>
      </c:barChart>
      <c:catAx>
        <c:axId val="3721851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98672439"/>
        <c:crosses val="autoZero"/>
        <c:auto val="1"/>
        <c:lblAlgn val="ctr"/>
        <c:lblOffset val="100"/>
        <c:noMultiLvlLbl val="0"/>
      </c:catAx>
      <c:valAx>
        <c:axId val="98672439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Franklin Gothic Book"/>
              </a:defRPr>
            </a:pPr>
          </a:p>
        </c:txPr>
        <c:crossAx val="3721851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Franklin Gothic Book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а расходов в 2018 году,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axId val="6530870"/>
        <c:axId val="83272516"/>
      </c:barChart>
      <c:catAx>
        <c:axId val="6530870"/>
        <c:scaling>
          <c:orientation val="minMax"/>
        </c:scaling>
        <c:delete val="0"/>
        <c:axPos val="b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83272516"/>
        <c:auto val="1"/>
        <c:lblAlgn val="ctr"/>
        <c:lblOffset val="100"/>
        <c:noMultiLvlLbl val="0"/>
      </c:catAx>
      <c:valAx>
        <c:axId val="83272516"/>
        <c:scaling>
          <c:orientation val="minMax"/>
        </c:scaling>
        <c:delete val="0"/>
        <c:axPos val="l"/>
        <c:numFmt formatCode="General" sourceLinked="1"/>
        <c:tickLblPos val="none"/>
        <c:spPr>
          <a:ln w="0">
            <a:noFill/>
          </a:ln>
        </c:spPr>
        <c:txPr>
          <a:bodyPr/>
          <a:lstStyle/>
          <a:p>
            <a:pPr>
              <a:defRPr b="0" sz="1800" spc="-1"/>
            </a:pPr>
          </a:p>
        </c:txPr>
        <c:crossAx val="6530870"/>
        <c:crossBetween val="midCat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руктура расходов бюджета в 2018 году, тыс. рублей</c:v>
                </c:pt>
              </c:strCache>
            </c:strRef>
          </c:tx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граммные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383,6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8,2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епрограммные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922,7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
</a:t>
                    </a: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1,8%</a:t>
                    </a:r>
                  </a:p>
                </c:rich>
              </c:tx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Программные</c:v>
                </c:pt>
                <c:pt idx="1">
                  <c:v>Непрограммны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14383.6</c:v>
                </c:pt>
                <c:pt idx="1">
                  <c:v>1922.7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Times New Roman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государственных программ  
за 1 полугодие 2018 года,
 тыс. рублей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План финансирования государственных программ на 2018 год, тыс. рублей</c:v>
                </c:pt>
              </c:strCache>
            </c:strRef>
          </c:tx>
          <c:spPr>
            <a:solidFill>
              <a:srgbClr val="b83d68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9"/>
            <c:invertIfNegative val="0"/>
            <c:spPr>
              <a:solidFill>
                <a:srgbClr val="b83d68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180555555555556"/>
                  <c:y val="0.0020671770695046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180555555555556"/>
                  <c:y val="0.0020671770695046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25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180555555555556"/>
                  <c:y val="7.57956169510706E-017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222222222222223"/>
                  <c:y val="0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9"/>
              <c:layout>
                <c:manualLayout>
                  <c:x val="-0.0416666666666667"/>
                  <c:y val="0.0413435413900936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1" sz="20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20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10"/>
                <c:pt idx="0">
                  <c:v>”Охрана окружающей среды и устойчивое использование природных ресурсов“ на 2016-2020 годы</c:v>
                </c:pt>
                <c:pt idx="1">
                  <c:v>”Строительство жилья“ на 2016-2020 годы</c:v>
                </c:pt>
                <c:pt idx="2">
                  <c:v>Развития транспортного комплекса Республики Беларусь на 2016-2020 годы</c:v>
                </c:pt>
                <c:pt idx="3">
                  <c:v>Развития физической культуры и спорта в Республике Беларусь на 2016-2020 годы</c:v>
                </c:pt>
                <c:pt idx="4">
                  <c:v>Развития аграрного бизнеса в Республике Беларусь на 2016 – 2020 годы</c:v>
                </c:pt>
                <c:pt idx="5">
                  <c:v>”Культура Беларуси“ на 2016 – 2020 годы</c:v>
                </c:pt>
                <c:pt idx="6">
                  <c:v>О социальной защите и содействии занятости населения на 2016-2020 годы</c:v>
                </c:pt>
                <c:pt idx="7">
                  <c:v>”Комфортное жилье и благоприятная среда“ на 2016-2020 годы</c:v>
                </c:pt>
                <c:pt idx="8">
                  <c:v>”Здоровье народа и демографическая безопасность Республики Беларусь“ на 2016-2020 годы</c:v>
                </c:pt>
                <c:pt idx="9">
                  <c:v>”Образование и молодежная политика“ на 2016-2020 г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10.6</c:v>
                </c:pt>
                <c:pt idx="1">
                  <c:v>11.9</c:v>
                </c:pt>
                <c:pt idx="2">
                  <c:v>15.8</c:v>
                </c:pt>
                <c:pt idx="3">
                  <c:v>230.6</c:v>
                </c:pt>
                <c:pt idx="4">
                  <c:v>367.5</c:v>
                </c:pt>
                <c:pt idx="5">
                  <c:v>571.8</c:v>
                </c:pt>
                <c:pt idx="6">
                  <c:v>674.2</c:v>
                </c:pt>
                <c:pt idx="7">
                  <c:v>2160</c:v>
                </c:pt>
                <c:pt idx="8">
                  <c:v>3187</c:v>
                </c:pt>
                <c:pt idx="9">
                  <c:v>7154.2</c:v>
                </c:pt>
              </c:numCache>
            </c:numRef>
          </c:val>
        </c:ser>
        <c:gapWidth val="150"/>
        <c:shape val="cylinder"/>
        <c:axId val="65020624"/>
        <c:axId val="52909631"/>
        <c:axId val="0"/>
      </c:bar3DChart>
      <c:catAx>
        <c:axId val="65020624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52909631"/>
        <c:crosses val="autoZero"/>
        <c:auto val="1"/>
        <c:lblAlgn val="ctr"/>
        <c:lblOffset val="100"/>
        <c:noMultiLvlLbl val="0"/>
      </c:catAx>
      <c:valAx>
        <c:axId val="52909631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65020624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9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Расходы консолидированного бюджета Сенненского района за I полугодие 2018 году, рублей</a:t>
            </a:r>
          </a:p>
        </c:rich>
      </c:tx>
      <c:layout>
        <c:manualLayout>
          <c:xMode val="edge"/>
          <c:yMode val="edge"/>
          <c:x val="0.105222407185165"/>
          <c:y val="0.0124970386164416"/>
        </c:manualLayout>
      </c:layout>
      <c:overlay val="0"/>
      <c:spPr>
        <a:noFill/>
        <a:ln w="0">
          <a:noFill/>
        </a:ln>
      </c:spPr>
    </c:title>
    <c:autoTitleDeleted val="0"/>
    <c:view3D>
      <c:rotX val="15"/>
      <c:rotY val="20"/>
      <c:rAngAx val="1"/>
      <c:perspective val="30"/>
    </c:view3D>
    <c:floor>
      <c:spPr>
        <a:noFill/>
        <a:ln w="9360">
          <a:solidFill>
            <a:srgbClr val="666666"/>
          </a:solidFill>
          <a:round/>
        </a:ln>
      </c:spPr>
    </c:floor>
    <c:sideWall>
      <c:spPr>
        <a:noFill/>
        <a:ln w="9360">
          <a:solidFill>
            <a:srgbClr val="666666"/>
          </a:solidFill>
          <a:round/>
        </a:ln>
      </c:spPr>
    </c:sideWall>
    <c:backWall>
      <c:spPr>
        <a:noFill/>
        <a:ln w="9360">
          <a:solidFill>
            <a:srgbClr val="666666"/>
          </a:solidFill>
          <a:round/>
        </a:ln>
      </c:spPr>
    </c:backWall>
    <c:plotArea>
      <c:bar3DChart>
        <c:barDir val="bar"/>
        <c:grouping val="stacked"/>
        <c:varyColors val="0"/>
        <c:ser>
          <c:idx val="0"/>
          <c:order val="0"/>
          <c:spPr>
            <a:solidFill>
              <a:srgbClr val="de6c3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4"/>
            <c:invertIfNegative val="0"/>
            <c:spPr>
              <a:solidFill>
                <a:srgbClr val="de6c36"/>
              </a:solidFill>
              <a:ln w="0">
                <a:noFill/>
              </a:ln>
            </c:spPr>
          </c:dPt>
          <c:dLbls>
            <c:numFmt formatCode="#,##0" sourceLinked="0"/>
            <c:dLbl>
              <c:idx val="0"/>
              <c:layout>
                <c:manualLayout>
                  <c:x val="0.0423372074154313"/>
                  <c:y val="-0.00208939140305923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491657892566298"/>
                  <c:y val="0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layout>
                <c:manualLayout>
                  <c:x val="0.0136571636823972"/>
                  <c:y val="0.00208939140305923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layout>
                <c:manualLayout>
                  <c:x val="0.019120029155356"/>
                  <c:y val="-0.00626817420917769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1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9"/>
                <c:pt idx="0">
                  <c:v>Национальная оборона</c:v>
                </c:pt>
                <c:pt idx="1">
                  <c:v>Охрана окружающей среды</c:v>
                </c:pt>
                <c:pt idx="2">
                  <c:v>Национальная экономика</c:v>
                </c:pt>
                <c:pt idx="3">
                  <c:v>Физическая культура, спорт, культура и средства массовой информации</c:v>
                </c:pt>
                <c:pt idx="4">
                  <c:v>Социальная политика</c:v>
                </c:pt>
                <c:pt idx="5">
                  <c:v>Общегосударственная деятельность</c:v>
                </c:pt>
                <c:pt idx="6">
                  <c:v>Жилищно-коммунальные услуги и жилищное строительство</c:v>
                </c:pt>
                <c:pt idx="7">
                  <c:v>Здравоохранение</c:v>
                </c:pt>
                <c:pt idx="8">
                  <c:v>Образова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21</c:v>
                </c:pt>
                <c:pt idx="1">
                  <c:v>29224.45</c:v>
                </c:pt>
                <c:pt idx="2">
                  <c:v>559891.33</c:v>
                </c:pt>
                <c:pt idx="3">
                  <c:v>853264.75</c:v>
                </c:pt>
                <c:pt idx="4">
                  <c:v>926855.72</c:v>
                </c:pt>
                <c:pt idx="5">
                  <c:v>1354118.19</c:v>
                </c:pt>
                <c:pt idx="6">
                  <c:v>2172501.33</c:v>
                </c:pt>
                <c:pt idx="7">
                  <c:v>3186950.86</c:v>
                </c:pt>
                <c:pt idx="8">
                  <c:v>6972965.08</c:v>
                </c:pt>
              </c:numCache>
            </c:numRef>
          </c:val>
        </c:ser>
        <c:gapWidth val="150"/>
        <c:shape val="cylinder"/>
        <c:axId val="54507317"/>
        <c:axId val="37468221"/>
        <c:axId val="0"/>
      </c:bar3DChart>
      <c:catAx>
        <c:axId val="54507317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37468221"/>
        <c:crosses val="autoZero"/>
        <c:auto val="1"/>
        <c:lblAlgn val="ctr"/>
        <c:lblOffset val="100"/>
        <c:noMultiLvlLbl val="0"/>
      </c:catAx>
      <c:valAx>
        <c:axId val="37468221"/>
        <c:scaling>
          <c:orientation val="minMax"/>
        </c:scaling>
        <c:delete val="0"/>
        <c:axPos val="l"/>
        <c:majorGridlines>
          <c:spPr>
            <a:ln w="9360">
              <a:solidFill>
                <a:srgbClr val="666666"/>
              </a:solidFill>
              <a:round/>
            </a:ln>
          </c:spPr>
        </c:majorGridlines>
        <c:numFmt formatCode="#,##0" sourceLinked="0"/>
        <c:majorTickMark val="out"/>
        <c:minorTickMark val="none"/>
        <c:tickLblPos val="nextTo"/>
        <c:spPr>
          <a:ln w="9360">
            <a:solidFill>
              <a:srgbClr val="666666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onstantia"/>
              </a:defRPr>
            </a:pPr>
          </a:p>
        </c:txPr>
        <c:crossAx val="54507317"/>
        <c:crosses val="autoZero"/>
        <c:crossBetween val="between"/>
      </c:valAx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Расходы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897326019883442"/>
          <c:y val="0.0823647140327919"/>
          <c:w val="0.808450462804251"/>
          <c:h val="0.561234700946809"/>
        </c:manualLayout>
      </c:layout>
      <c:pie3DChart>
        <c:varyColors val="1"/>
        <c:ser>
          <c:idx val="0"/>
          <c:order val="0"/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Pt>
            <c:idx val="4"/>
            <c:explosion val="25"/>
            <c:spPr>
              <a:solidFill>
                <a:srgbClr val="cf6da4"/>
              </a:solidFill>
              <a:ln w="0">
                <a:noFill/>
              </a:ln>
            </c:spPr>
          </c:dPt>
          <c:dPt>
            <c:idx val="5"/>
            <c:explosion val="25"/>
            <c:spPr>
              <a:solidFill>
                <a:srgbClr val="fa8d3d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0"/>
          </c:dLbls>
          <c:cat>
            <c:strRef>
              <c:f>categories</c:f>
              <c:strCache>
                <c:ptCount val="6"/>
                <c:pt idx="0">
                  <c:v>Социальная сфера</c:v>
                </c:pt>
                <c:pt idx="1">
                  <c:v>Жилищно-коммунальные услуги и жилищное строительство</c:v>
                </c:pt>
                <c:pt idx="2">
                  <c:v>Общегосударственная деятельность</c:v>
                </c:pt>
                <c:pt idx="3">
                  <c:v>Национальная экономика</c:v>
                </c:pt>
                <c:pt idx="4">
                  <c:v>Охрана окружающей среды</c:v>
                </c:pt>
                <c:pt idx="5">
                  <c:v>Национальная оборон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1940036.41</c:v>
                </c:pt>
                <c:pt idx="1">
                  <c:v>2172501.33</c:v>
                </c:pt>
                <c:pt idx="2">
                  <c:v>1354118.19</c:v>
                </c:pt>
                <c:pt idx="3">
                  <c:v>559891.33</c:v>
                </c:pt>
                <c:pt idx="4">
                  <c:v>29224.45</c:v>
                </c:pt>
                <c:pt idx="5">
                  <c:v>21</c:v>
                </c:pt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800" spc="-1" strike="noStrike">
                <a:solidFill>
                  <a:srgbClr val="000000"/>
                </a:solidFill>
                <a:latin typeface="Constantia"/>
              </a:defRPr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циальная сфера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spPr>
            <a:solidFill>
              <a:srgbClr val="b83d68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6972965.08</c:v>
                </c:pt>
                <c:pt idx="1">
                  <c:v>3186950.86</c:v>
                </c:pt>
                <c:pt idx="2">
                  <c:v>853264.75</c:v>
                </c:pt>
                <c:pt idx="3">
                  <c:v>926855.72</c:v>
                </c:pt>
              </c:numCache>
            </c:numRef>
          </c:val>
        </c:ser>
        <c:ser>
          <c:idx val="1"/>
          <c:order val="1"/>
          <c:spPr>
            <a:solidFill>
              <a:srgbClr val="ac66bb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b83d68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ac66bb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de6c36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f9b639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onstantia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onstantia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Образование</c:v>
                </c:pt>
                <c:pt idx="1">
                  <c:v>Здравоохранение</c:v>
                </c:pt>
                <c:pt idx="2">
                  <c:v>Физическая культура, спорт, культура и средства массовой информации</c:v>
                </c:pt>
                <c:pt idx="3">
                  <c:v>Социальная политика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Constantia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04C5EC-6E3F-4849-A887-2ED60D2A3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F49BE6-78AC-4702-9ECB-026B1F31E6D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687-0CFE-4BAC-B4BA-520665A7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5CC-A610-4387-A2CF-25E77B48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C1E-22A3-4597-B45D-92F1F775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B97-0063-4255-9F97-7F33A9E9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238F-1D01-487B-AC3C-FE5DD9B2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8CBF-F904-42A4-A4D4-6F80F76A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C45B-8CE7-4D3B-9488-7671F446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0FE4-7DF0-4383-9211-CA202C9A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B998-1822-47C8-8D63-5217E602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1889-B93C-41E1-A4A5-3228743C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3306-C992-475A-BABA-0533411F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26D-8DE6-4C4C-AB96-A2D3665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5B85-5EEF-4D12-AD04-1C75BA06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22DD-AC46-403D-B7FE-4EF607B7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A9A4-9E46-4526-A59F-7F61374D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49AA-F28C-46E4-9E1B-7E8561AA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B5D7-F73C-4CB6-AB8E-200A155F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2F30-CEDE-4C4B-BA38-893EA5D5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EA49-5187-4A42-8940-DD56929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2127A-A178-49FC-8840-FD13C1AB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D784-2F05-483E-8B07-C5FE38D0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74BB-C24B-490E-A36B-AEA5E6F5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C81-60D1-4ED5-8081-F22469B1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4C01C-7751-47BB-B36D-94F28D1F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AF92-32D4-4458-A206-43740396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2799-F001-440A-994C-135FB04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78BF-F744-4C81-A791-EE0FE49B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62D3-CA25-4BD5-846B-278A6F3F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9B51-DC78-4511-B860-4B42E4A1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A30D-1925-4259-86A9-CFAA2CE9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0FD7-3198-4F73-95C0-970321AC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4A3F-62EA-4319-B4FF-9048C90A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42E5-B905-4B6A-9D45-5C325A5B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6A9-E0FA-4778-8E3C-0D6D4997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7DE62-5917-40FA-9059-655F90B5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4704D-B5B2-48F1-A274-9E4EC8DE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009A0-A981-4F25-9310-C3060119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4F62-BFF2-4349-B13E-19472BC5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9ED5C-B1A5-4AF3-8338-8138C954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BFAC-70C1-4963-8A52-8FC4DC0B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5F01-0E91-468F-A043-2E3A6CAC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1AFB-017A-4EC7-B544-CAC047B8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2815-2F5A-42A5-BE76-37A4F779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C31-B13B-419B-8213-0B46321C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92C-13C6-4690-9FEF-80425F08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6C3-7D22-4095-954A-2AE20ED8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908-982D-4E5A-BA38-D16DCCCC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1D4-6DFE-41EB-B76C-46D0CB20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0C8762-7E06-429B-A2C8-52255E5558A6}" type="slidenum"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34590">
                  <a:alpha val="45098"/>
                </a:srgbClr>
              </a:gs>
              <a:gs pos="100000">
                <a:srgbClr val="f35307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a04bb4">
                  <a:alpha val="45098"/>
                </a:srgbClr>
              </a:gs>
              <a:gs pos="100000">
                <a:srgbClr val="b74814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7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8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35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9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b83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de6c36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b83d68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ac66bb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de6c36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D23F16-5061-4AAA-8977-3C1F2C295F4C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e8637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e8637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575f6d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e8637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575f6d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e8637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575f6d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e8637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e0763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77B6AD-CDE7-4123-93BA-4F93FB571BF3}" type="slidenum">
              <a:rPr b="0" lang="ru-RU" sz="1200" spc="-1" strike="noStrike">
                <a:solidFill>
                  <a:srgbClr val="e0763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34590">
                  <a:alpha val="45098"/>
                </a:srgbClr>
              </a:gs>
              <a:gs pos="100000">
                <a:srgbClr val="f35307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a04bb4">
                  <a:alpha val="45098"/>
                </a:srgbClr>
              </a:gs>
              <a:gs pos="100000">
                <a:srgbClr val="b74814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37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138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c35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9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b83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2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D75325-DD1C-461F-8B4B-F0ED037F45D7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chart" Target="../charts/chart9.xml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857160" y="1071720"/>
            <a:ext cx="8286480" cy="26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ts val="4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Бюллетень об исполнении консолидированного бюджета Сенненского района 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1 полугодие 2018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Диаграмма 3"/>
          <p:cNvGraphicFramePr/>
          <p:nvPr/>
        </p:nvGraphicFramePr>
        <p:xfrm>
          <a:off x="0" y="714240"/>
          <a:ext cx="9143640" cy="614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9" name="TextBox 2"/>
          <p:cNvSpPr/>
          <p:nvPr/>
        </p:nvSpPr>
        <p:spPr>
          <a:xfrm>
            <a:off x="828684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Рост платежей по доходным источникам </a:t>
            </a:r>
            <a:r>
              <a:rPr b="0" lang="ru-RU" sz="2200" spc="-1" strike="noStrike" cap="all">
                <a:solidFill>
                  <a:srgbClr val="575f6d"/>
                </a:solidFill>
                <a:latin typeface="Franklin Gothic Medium"/>
              </a:rPr>
              <a:t>(тыс. рублей)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1" name="Содержимое 3"/>
          <p:cNvGraphicFramePr/>
          <p:nvPr/>
        </p:nvGraphicFramePr>
        <p:xfrm>
          <a:off x="0" y="1071720"/>
          <a:ext cx="9143640" cy="5785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92" name="TextBox 4"/>
          <p:cNvSpPr/>
          <p:nvPr/>
        </p:nvSpPr>
        <p:spPr>
          <a:xfrm>
            <a:off x="83581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575f6d"/>
                </a:solidFill>
                <a:latin typeface="Franklin Gothic Medium"/>
              </a:rPr>
              <a:t>Снижение доходных источников </a:t>
            </a:r>
            <a:br>
              <a:rPr sz="3600"/>
            </a:br>
            <a:r>
              <a:rPr b="0" lang="ru-RU" sz="2200" spc="-1" strike="noStrike" cap="all">
                <a:solidFill>
                  <a:srgbClr val="575f6d"/>
                </a:solidFill>
                <a:latin typeface="Franklin Gothic Medium"/>
              </a:rPr>
              <a:t>(тыс. рублей)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94" name="Содержимое 3"/>
          <p:cNvGraphicFramePr/>
          <p:nvPr/>
        </p:nvGraphicFramePr>
        <p:xfrm>
          <a:off x="0" y="1285920"/>
          <a:ext cx="9143640" cy="5571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95" name="TextBox 4"/>
          <p:cNvSpPr/>
          <p:nvPr/>
        </p:nvSpPr>
        <p:spPr>
          <a:xfrm>
            <a:off x="83581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Диаграмма 1"/>
          <p:cNvGraphicFramePr/>
          <p:nvPr/>
        </p:nvGraphicFramePr>
        <p:xfrm>
          <a:off x="0" y="857160"/>
          <a:ext cx="9143640" cy="6000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97" name="Диаграмма 2"/>
          <p:cNvGraphicFramePr/>
          <p:nvPr/>
        </p:nvGraphicFramePr>
        <p:xfrm>
          <a:off x="0" y="1571760"/>
          <a:ext cx="9143640" cy="5285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98" name="TextBox 3"/>
          <p:cNvSpPr/>
          <p:nvPr/>
        </p:nvSpPr>
        <p:spPr>
          <a:xfrm>
            <a:off x="285840" y="785880"/>
            <a:ext cx="85723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руктура расходов бюдж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1 полугодии 2018 года, тыс. руб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828684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Диаграмма 1"/>
          <p:cNvGraphicFramePr/>
          <p:nvPr/>
        </p:nvGraphicFramePr>
        <p:xfrm>
          <a:off x="0" y="714240"/>
          <a:ext cx="9143640" cy="6143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1" name="TextBox 2"/>
          <p:cNvSpPr/>
          <p:nvPr/>
        </p:nvSpPr>
        <p:spPr>
          <a:xfrm>
            <a:off x="8001000" y="214200"/>
            <a:ext cx="114264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Диаграмма 1"/>
          <p:cNvGraphicFramePr/>
          <p:nvPr/>
        </p:nvGraphicFramePr>
        <p:xfrm>
          <a:off x="-77400" y="389880"/>
          <a:ext cx="9298800" cy="6077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03" name="TextBox 2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971640" y="836640"/>
            <a:ext cx="662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руктура расходов консолидированного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енненского района за 1 полугодие 2018 г. (в процент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Диаграмма 4"/>
          <p:cNvGraphicFramePr/>
          <p:nvPr/>
        </p:nvGraphicFramePr>
        <p:xfrm>
          <a:off x="323640" y="1772640"/>
          <a:ext cx="4200120" cy="467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06" name="Диаграмма 5"/>
          <p:cNvGraphicFramePr/>
          <p:nvPr/>
        </p:nvGraphicFramePr>
        <p:xfrm>
          <a:off x="5220000" y="1845000"/>
          <a:ext cx="3742920" cy="4628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07" name="TextBox 6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Таблица 39"/>
          <p:cNvGraphicFramePr/>
          <p:nvPr/>
        </p:nvGraphicFramePr>
        <p:xfrm>
          <a:off x="467640" y="1989000"/>
          <a:ext cx="8208720" cy="4382280"/>
        </p:xfrm>
        <a:graphic>
          <a:graphicData uri="http://schemas.openxmlformats.org/drawingml/2006/table">
            <a:tbl>
              <a:tblPr/>
              <a:tblGrid>
                <a:gridCol w="4348440"/>
                <a:gridCol w="3860280"/>
              </a:tblGrid>
              <a:tr h="6807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иды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Всего по органам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80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1.Долг органов местного управления и само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 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34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1.1Ценные бумаги (облиг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 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519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  <a:ea typeface="Calibri"/>
                        </a:rPr>
                        <a:t>1.2. Бюджет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  <a:ea typeface="Calibri"/>
                        </a:rPr>
                        <a:t>3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1701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2.Долг, гарантированный местными исполнительными и распорядительными органами по кредитам банков, выданным субъектам хозяйств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88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34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ИТОГО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</a:pPr>
                      <a:r>
                        <a:rPr b="0" lang="ru-RU" sz="20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2 68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</a:tbl>
          </a:graphicData>
        </a:graphic>
      </p:graphicFrame>
      <p:cxnSp>
        <p:nvCxnSpPr>
          <p:cNvPr id="209" name="Прямая соединительная линия 48"/>
          <p:cNvCxnSpPr/>
          <p:nvPr/>
        </p:nvCxnSpPr>
        <p:spPr>
          <a:xfrm>
            <a:off x="2806560" y="9675720"/>
            <a:ext cx="362160" cy="360"/>
          </a:xfrm>
          <a:prstGeom prst="straightConnector1">
            <a:avLst/>
          </a:prstGeom>
          <a:ln>
            <a:solidFill>
              <a:srgbClr val="892c4c"/>
            </a:solidFill>
            <a:round/>
          </a:ln>
        </p:spPr>
      </p:cxnSp>
      <p:sp>
        <p:nvSpPr>
          <p:cNvPr id="210" name="Rectangle 67"/>
          <p:cNvSpPr/>
          <p:nvPr/>
        </p:nvSpPr>
        <p:spPr>
          <a:xfrm>
            <a:off x="395640" y="1183320"/>
            <a:ext cx="82807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овые обязательства органов местного управления и самоуправления Сенненского района на 1 июля 2018 г.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572320" y="214200"/>
            <a:ext cx="571320" cy="394560"/>
          </a:xfrm>
          <a:prstGeom prst="rect">
            <a:avLst/>
          </a:prstGeom>
          <a:noFill/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Поток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  <Words>197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2T12:26:12Z</dcterms:created>
  <dc:creator>doxod</dc:creator>
  <dc:description/>
  <dc:language>en-US</dc:language>
  <cp:lastModifiedBy>GVV</cp:lastModifiedBy>
  <dcterms:modified xsi:type="dcterms:W3CDTF">2018-08-01T07:39:49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9</vt:r8>
  </property>
</Properties>
</file>