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charts/chart12.xml" ContentType="application/vnd.openxmlformats-officedocument.drawingml.chart+xml"/>
  <Override PartName="/ppt/charts/chart11.xml" ContentType="application/vnd.openxmlformats-officedocument.drawingml.chart+xml"/>
  <Override PartName="/ppt/charts/chart10.xml" ContentType="application/vnd.openxmlformats-officedocument.drawingml.chart+xml"/>
  <Override PartName="/ppt/charts/chart9.xml" ContentType="application/vnd.openxmlformats-officedocument.drawingml.chart+xml"/>
  <Override PartName="/ppt/charts/chart8.xml" ContentType="application/vnd.openxmlformats-officedocument.drawingml.chart+xml"/>
  <Override PartName="/ppt/charts/chart7.xml" ContentType="application/vnd.openxmlformats-officedocument.drawingml.chart+xml"/>
  <Override PartName="/ppt/charts/chart6.xml" ContentType="application/vnd.openxmlformats-officedocument.drawingml.chart+xml"/>
  <Override PartName="/ppt/charts/_rels/chart6.xml.rels" ContentType="application/vnd.openxmlformats-package.relationships+xml"/>
  <Override PartName="/ppt/charts/_rels/chart3.xml.rels" ContentType="application/vnd.openxmlformats-package.relationships+xml"/>
  <Override PartName="/ppt/charts/_rels/chart2.xml.rels" ContentType="application/vnd.openxmlformats-package.relationships+xml"/>
  <Override PartName="/ppt/charts/chart5.xml" ContentType="application/vnd.openxmlformats-officedocument.drawingml.chart+xml"/>
  <Override PartName="/ppt/charts/chart4.xml" ContentType="application/vnd.openxmlformats-officedocument.drawingml.chart+xml"/>
  <Override PartName="/ppt/charts/chart3.xml" ContentType="application/vnd.openxmlformats-officedocument.drawingml.chart+xml"/>
  <Override PartName="/ppt/charts/chart2.xml" ContentType="application/vnd.openxmlformats-officedocument.drawingml.chart+xml"/>
  <Override PartName="/ppt/charts/chart13.xml" ContentType="application/vnd.openxmlformats-officedocument.drawingml.char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drawings/drawing1.xml" ContentType="application/vnd.openxmlformats-officedocument.drawingml.chartshapes+xml"/>
  <Override PartName="/ppt/drawings/drawing2.xml" ContentType="application/vnd.openxmlformats-officedocument.drawingml.chartshapes+xml"/>
  <Override PartName="/ppt/drawings/drawing3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charts/_rels/chart2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_rels/chart3.xml.rels><?xml version="1.0" encoding="UTF-8"?>
<Relationships xmlns="http://schemas.openxmlformats.org/package/2006/relationships"><Relationship Id="rId1" Type="http://schemas.openxmlformats.org/officeDocument/2006/relationships/chartUserShapes" Target="../drawings/drawing2.xml"/>
</Relationships>
</file>

<file path=ppt/charts/_rels/chart6.xml.rels><?xml version="1.0" encoding="UTF-8"?>
<Relationships xmlns="http://schemas.openxmlformats.org/package/2006/relationships"><Relationship Id="rId1" Type="http://schemas.openxmlformats.org/officeDocument/2006/relationships/chartUserShapes" Target="../drawings/drawing3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ервичный уровень (бюджеты сельских Советов - 8)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0b05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3,2</a:t>
                    </a:r>
                  </a:p>
                </c:rich>
              </c:tx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первичный уровень (бюджеты сельских Советов - 8)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2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базовый уровень (районный бюджет - 1)</c:v>
                </c:pt>
              </c:strCache>
            </c:strRef>
          </c:tx>
          <c:spPr>
            <a:solidFill>
              <a:srgbClr val="d99694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d99694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9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6,8</a:t>
                    </a:r>
                  </a:p>
                </c:rich>
              </c:tx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первичный уровень (бюджеты сельских Советов - 8)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97.6</c:v>
                </c:pt>
              </c:numCache>
            </c:numRef>
          </c:val>
        </c:ser>
        <c:gapWidth val="150"/>
        <c:shape val="box"/>
        <c:axId val="84824285"/>
        <c:axId val="39747992"/>
        <c:axId val="0"/>
      </c:bar3DChart>
      <c:catAx>
        <c:axId val="84824285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747992"/>
        <c:auto val="1"/>
        <c:lblAlgn val="ctr"/>
        <c:lblOffset val="100"/>
        <c:noMultiLvlLbl val="0"/>
      </c:catAx>
      <c:valAx>
        <c:axId val="3974799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824285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ельское хозяйство, рыбохозяйственная деятельность</c:v>
                </c:pt>
              </c:strCache>
            </c:strRef>
          </c:tx>
          <c:spPr>
            <a:solidFill>
              <a:srgbClr val="8eb4e3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тыс. рубле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326.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Топливо и энергетика</c:v>
                </c:pt>
              </c:strCache>
            </c:strRef>
          </c:tx>
          <c:spPr>
            <a:solidFill>
              <a:srgbClr val="d9969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тыс. рубле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194.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Транспорт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тыс. рублей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16.1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Другая деятельность в области национальной экономики</c:v>
                </c:pt>
              </c:strCache>
            </c:strRef>
          </c:tx>
          <c:spPr>
            <a:solidFill>
              <a:srgbClr val="8064a2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8064a2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.0220039265499526"/>
                  <c:y val="-0.0626555210552769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тыс. рублей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4.1</c:v>
                </c:pt>
              </c:numCache>
            </c:numRef>
          </c:val>
        </c:ser>
        <c:gapWidth val="150"/>
        <c:shape val="box"/>
        <c:axId val="89910455"/>
        <c:axId val="14959677"/>
        <c:axId val="0"/>
      </c:bar3DChart>
      <c:catAx>
        <c:axId val="89910455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0" lang="ru-RU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541,4 тыс. рублей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959677"/>
        <c:auto val="1"/>
        <c:lblAlgn val="ctr"/>
        <c:lblOffset val="100"/>
        <c:noMultiLvlLbl val="0"/>
      </c:catAx>
      <c:valAx>
        <c:axId val="14959677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89910455"/>
        <c:crosses val="autoZero"/>
        <c:crossBetween val="between"/>
      </c:valAx>
    </c:plotArea>
    <c:legend>
      <c:legendPos val="r"/>
      <c:layout>
        <c:manualLayout>
          <c:xMode val="edge"/>
          <c:yMode val="edge"/>
          <c:x val="0.646723617811846"/>
          <c:y val="0.153070846725184"/>
          <c:w val="0.334415873716769"/>
          <c:h val="0.82595655801731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нтов</a:t>
            </a:r>
          </a:p>
        </c:rich>
      </c:tx>
      <c:layout>
        <c:manualLayout>
          <c:xMode val="edge"/>
          <c:yMode val="edge"/>
          <c:x val="0.693952079807607"/>
          <c:y val="0.021898324179693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роцентов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8eb4e3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d99694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ffff00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8064a2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Сельское хозяйство, рыбохозяйственная деятельность</c:v>
                </c:pt>
                <c:pt idx="1">
                  <c:v>Топливо и энергетика</c:v>
                </c:pt>
                <c:pt idx="2">
                  <c:v>Транспорт</c:v>
                </c:pt>
                <c:pt idx="3">
                  <c:v>Другая деятельность в области национальной экономик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60.3</c:v>
                </c:pt>
                <c:pt idx="1">
                  <c:v>35.9</c:v>
                </c:pt>
                <c:pt idx="2">
                  <c:v>3</c:v>
                </c:pt>
                <c:pt idx="3">
                  <c:v>0.8</c:v>
                </c:pt>
              </c:numCache>
            </c:numRef>
          </c:val>
        </c:ser>
      </c:pie3DChart>
    </c:plotArea>
    <c:legend>
      <c:legendPos val="b"/>
      <c:layout>
        <c:manualLayout>
          <c:xMode val="edge"/>
          <c:yMode val="edge"/>
          <c:x val="0.113486030271354"/>
          <c:y val="0.614669573323715"/>
          <c:w val="0.773027692041245"/>
          <c:h val="0.36966654641246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</a:p>
        </c:rich>
      </c:tx>
      <c:layout>
        <c:manualLayout>
          <c:xMode val="edge"/>
          <c:yMode val="edge"/>
          <c:x val="0.0580949835159939"/>
          <c:y val="0.00965132875688167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1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9bbb59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ac09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ОБЩЕГОСУДАРСТВЕННАЯ ДЕЯТЕЛЬНОСТЬ</c:v>
                </c:pt>
                <c:pt idx="1">
                  <c:v>НАЦИОНАЛЬНАЯ ЭКОНОМИКА</c:v>
                </c:pt>
                <c:pt idx="2">
                  <c:v>ЖИЛИЩНО-КОММУНАЛЬНЫЕ УСЛУГИ И ЖИЛИЩНОЕ СТРОИТЕЛЬСТВО</c:v>
                </c:pt>
                <c:pt idx="3">
                  <c:v>СОЦИАЛЬНАЯ СФЕР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376.1</c:v>
                </c:pt>
                <c:pt idx="1">
                  <c:v>541.4</c:v>
                </c:pt>
                <c:pt idx="2">
                  <c:v>2573.1</c:v>
                </c:pt>
                <c:pt idx="3">
                  <c:v>13251</c:v>
                </c:pt>
              </c:numCache>
            </c:numRef>
          </c:val>
        </c:ser>
      </c:pie3DChart>
    </c:plotArea>
    <c:legend>
      <c:legendPos val="b"/>
      <c:layout>
        <c:manualLayout>
          <c:xMode val="edge"/>
          <c:yMode val="edge"/>
          <c:x val="0.019186730914502"/>
          <c:y val="0.604578134147721"/>
          <c:w val="0.927048939306787"/>
          <c:h val="0.37903009453167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1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1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e6b9b8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00b0f0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ccc1da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Образование</c:v>
                </c:pt>
                <c:pt idx="1">
                  <c:v>Здравоохранение</c:v>
                </c:pt>
                <c:pt idx="2">
                  <c:v>Физическая культура, спорт, культура и средства массовой информации</c:v>
                </c:pt>
                <c:pt idx="3">
                  <c:v>Социальная политик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650.4</c:v>
                </c:pt>
                <c:pt idx="1">
                  <c:v>3765.2</c:v>
                </c:pt>
                <c:pt idx="2">
                  <c:v>892.8</c:v>
                </c:pt>
                <c:pt idx="3">
                  <c:v>942.6</c:v>
                </c:pt>
              </c:numCache>
            </c:numRef>
          </c:val>
        </c:ser>
      </c:pie3DChart>
    </c:plotArea>
    <c:legend>
      <c:legendPos val="b"/>
      <c:layout>
        <c:manualLayout>
          <c:xMode val="edge"/>
          <c:yMode val="edge"/>
          <c:x val="0.106969386674199"/>
          <c:y val="0.642056035232712"/>
          <c:w val="0.786061226651602"/>
          <c:h val="0.343358733711006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395782549816212"/>
          <c:y val="0.116926173701971"/>
          <c:w val="0.573921454826852"/>
          <c:h val="0.764845183825706"/>
        </c:manualLayout>
      </c:layout>
      <c:barChart>
        <c:barDir val="bar"/>
        <c:grouping val="percentStacked"/>
        <c:varyColors val="0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invertIfNegative val="0"/>
          <c:cat>
            <c:strRef>
              <c:f>categories</c:f>
              <c:strCache>
                <c:ptCount val="9"/>
                <c:pt idx="0">
                  <c:v>Подоходный налог с физических лиц</c:v>
                </c:pt>
                <c:pt idx="1">
                  <c:v>Налог на прибыль</c:v>
                </c:pt>
                <c:pt idx="2">
                  <c:v>налоги на собственность</c:v>
                </c:pt>
                <c:pt idx="3">
                  <c:v>Налог на добавленную стоимость</c:v>
                </c:pt>
                <c:pt idx="4">
                  <c:v>Налоги, уплачиваемые при особых режимах налогообложения</c:v>
                </c:pt>
                <c:pt idx="5">
                  <c:v>Налог за добычу (изъятие) природных ресурсов</c:v>
                </c:pt>
                <c:pt idx="6">
                  <c:v>Государственная пошлина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</c:ser>
        <c:ser>
          <c:idx val="1"/>
          <c:order val="1"/>
          <c:tx>
            <c:strRef>
              <c:f>label 0</c:f>
              <c:strCache>
                <c:ptCount val="1"/>
                <c:pt idx="0">
                  <c:v>всего райбюджет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Подоходный налог с физических лиц</c:v>
                </c:pt>
                <c:pt idx="1">
                  <c:v>Налог на прибыль</c:v>
                </c:pt>
                <c:pt idx="2">
                  <c:v>налоги на собственность</c:v>
                </c:pt>
                <c:pt idx="3">
                  <c:v>Налог на добавленную стоимость</c:v>
                </c:pt>
                <c:pt idx="4">
                  <c:v>Налоги, уплачиваемые при особых режимах налогообложения</c:v>
                </c:pt>
                <c:pt idx="5">
                  <c:v>Налог за добычу (изъятие) природных ресурсов</c:v>
                </c:pt>
                <c:pt idx="6">
                  <c:v>Государственная пошлина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38.0901349707467</c:v>
                </c:pt>
                <c:pt idx="1">
                  <c:v>0.0926837745467184</c:v>
                </c:pt>
                <c:pt idx="2">
                  <c:v>17.2884203209176</c:v>
                </c:pt>
                <c:pt idx="3">
                  <c:v>17.0711927243237</c:v>
                </c:pt>
                <c:pt idx="4">
                  <c:v>7.13085790418815</c:v>
                </c:pt>
                <c:pt idx="5">
                  <c:v>0.333082314777269</c:v>
                </c:pt>
                <c:pt idx="6">
                  <c:v>0.437351561142328</c:v>
                </c:pt>
                <c:pt idx="7">
                  <c:v>16.3586862074958</c:v>
                </c:pt>
                <c:pt idx="8">
                  <c:v>96.8024097781382</c:v>
                </c:pt>
              </c:numCache>
            </c:numRef>
          </c:val>
        </c:ser>
        <c:ser>
          <c:idx val="2"/>
          <c:order val="2"/>
          <c:tx>
            <c:strRef>
              <c:f>label 1</c:f>
              <c:strCache>
                <c:ptCount val="1"/>
                <c:pt idx="0">
                  <c:v>всего сельские Советы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Подоходный налог с физических лиц</c:v>
                </c:pt>
                <c:pt idx="1">
                  <c:v>Налог на прибыль</c:v>
                </c:pt>
                <c:pt idx="2">
                  <c:v>налоги на собственность</c:v>
                </c:pt>
                <c:pt idx="3">
                  <c:v>Налог на добавленную стоимость</c:v>
                </c:pt>
                <c:pt idx="4">
                  <c:v>Налоги, уплачиваемые при особых режимах налогообложения</c:v>
                </c:pt>
                <c:pt idx="5">
                  <c:v>Налог за добычу (изъятие) природных ресурсов</c:v>
                </c:pt>
                <c:pt idx="6">
                  <c:v>Государственная пошлина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2.2707524763946</c:v>
                </c:pt>
                <c:pt idx="1">
                  <c:v>0</c:v>
                </c:pt>
                <c:pt idx="2">
                  <c:v>0.457626136824422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.0347564154550194</c:v>
                </c:pt>
                <c:pt idx="7">
                  <c:v>0.412732433528355</c:v>
                </c:pt>
                <c:pt idx="8">
                  <c:v>3.1758674622024</c:v>
                </c:pt>
              </c:numCache>
            </c:numRef>
          </c:val>
        </c:ser>
        <c:gapWidth val="150"/>
        <c:overlap val="100"/>
        <c:axId val="90094687"/>
        <c:axId val="28315742"/>
      </c:barChart>
      <c:catAx>
        <c:axId val="90094687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315742"/>
        <c:crosses val="autoZero"/>
        <c:auto val="1"/>
        <c:lblAlgn val="ctr"/>
        <c:lblOffset val="100"/>
        <c:noMultiLvlLbl val="0"/>
      </c:catAx>
      <c:valAx>
        <c:axId val="2831574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094687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430865298840321"/>
          <c:y val="0.0854206049149338"/>
          <c:w val="0.534615832137455"/>
          <c:h val="0.768608223062382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оступило доходов  на          1.07.2018 г.   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/>
                </c:pt>
                <c:pt idx="1">
                  <c:v>Подоходный налог с физических лиц</c:v>
                </c:pt>
                <c:pt idx="2">
                  <c:v>Налог на прибыль</c:v>
                </c:pt>
                <c:pt idx="3">
                  <c:v>Налоги на собственность</c:v>
                </c:pt>
                <c:pt idx="4">
                  <c:v>Налог на добавленную стоимость</c:v>
                </c:pt>
                <c:pt idx="5">
                  <c:v>Платежи по особым режимам налогообложения</c:v>
                </c:pt>
                <c:pt idx="6">
                  <c:v>Доходы от осуществления приносящей доходы деятельности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1">
                  <c:v>2821.9</c:v>
                </c:pt>
                <c:pt idx="2">
                  <c:v>30.1</c:v>
                </c:pt>
                <c:pt idx="3">
                  <c:v>2032.4</c:v>
                </c:pt>
                <c:pt idx="4">
                  <c:v>1082.2</c:v>
                </c:pt>
                <c:pt idx="5">
                  <c:v>417.8</c:v>
                </c:pt>
                <c:pt idx="6">
                  <c:v>568.9</c:v>
                </c:pt>
                <c:pt idx="7">
                  <c:v>131.8</c:v>
                </c:pt>
                <c:pt idx="8">
                  <c:v>7085.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Поступило доходов  на          1.07.2019 г.   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/>
                </c:pt>
                <c:pt idx="1">
                  <c:v>Подоходный налог с физических лиц</c:v>
                </c:pt>
                <c:pt idx="2">
                  <c:v>Налог на прибыль</c:v>
                </c:pt>
                <c:pt idx="3">
                  <c:v>Налоги на собственность</c:v>
                </c:pt>
                <c:pt idx="4">
                  <c:v>Налог на добавленную стоимость</c:v>
                </c:pt>
                <c:pt idx="5">
                  <c:v>Платежи по особым режимам налогообложения</c:v>
                </c:pt>
                <c:pt idx="6">
                  <c:v>Доходы от осуществления приносящей доходы деятельности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1">
                  <c:v>3124.3</c:v>
                </c:pt>
                <c:pt idx="2">
                  <c:v>24.1</c:v>
                </c:pt>
                <c:pt idx="3">
                  <c:v>1200</c:v>
                </c:pt>
                <c:pt idx="4">
                  <c:v>1123.6</c:v>
                </c:pt>
                <c:pt idx="5">
                  <c:v>551.8</c:v>
                </c:pt>
                <c:pt idx="6">
                  <c:v>602</c:v>
                </c:pt>
                <c:pt idx="7">
                  <c:v>469.5</c:v>
                </c:pt>
                <c:pt idx="8">
                  <c:v>7095.3</c:v>
                </c:pt>
              </c:numCache>
            </c:numRef>
          </c:val>
        </c:ser>
        <c:gapWidth val="150"/>
        <c:overlap val="0"/>
        <c:axId val="39040814"/>
        <c:axId val="37879452"/>
      </c:barChart>
      <c:catAx>
        <c:axId val="39040814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879452"/>
        <c:crosses val="autoZero"/>
        <c:auto val="1"/>
        <c:lblAlgn val="ctr"/>
        <c:lblOffset val="100"/>
        <c:noMultiLvlLbl val="0"/>
      </c:catAx>
      <c:valAx>
        <c:axId val="3787945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040814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рост (снижение) собственных доходов бюджетов района
 за 1 полугодие 2019 года к 1 полугодию 2018 года, тыс.рублей 
(прирост +, снижение -)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316487608113874"/>
          <c:y val="0.171836007130125"/>
          <c:w val="0.78986153667145"/>
          <c:h val="0.678312537136067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рирост +, снижение -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1"/>
                <c:pt idx="0">
                  <c:v>Белицкий</c:v>
                </c:pt>
                <c:pt idx="1">
                  <c:v>Богушевский</c:v>
                </c:pt>
                <c:pt idx="2">
                  <c:v>Богдановский</c:v>
                </c:pt>
                <c:pt idx="3">
                  <c:v>Коковчинский </c:v>
                </c:pt>
                <c:pt idx="4">
                  <c:v>Мошканский</c:v>
                </c:pt>
                <c:pt idx="5">
                  <c:v>Немойтовский</c:v>
                </c:pt>
                <c:pt idx="6">
                  <c:v>Студенковский</c:v>
                </c:pt>
                <c:pt idx="7">
                  <c:v>Ходцевский</c:v>
                </c:pt>
                <c:pt idx="8">
                  <c:v>итого по Советам</c:v>
                </c:pt>
                <c:pt idx="9">
                  <c:v>районный бюджет</c:v>
                </c:pt>
                <c:pt idx="10">
                  <c:v>Всего по району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1"/>
                <c:pt idx="0">
                  <c:v>6.3</c:v>
                </c:pt>
                <c:pt idx="1">
                  <c:v>25.6</c:v>
                </c:pt>
                <c:pt idx="2">
                  <c:v>0.3</c:v>
                </c:pt>
                <c:pt idx="3">
                  <c:v>10.8</c:v>
                </c:pt>
                <c:pt idx="4">
                  <c:v>2.8</c:v>
                </c:pt>
                <c:pt idx="5">
                  <c:v>0</c:v>
                </c:pt>
                <c:pt idx="6">
                  <c:v>-2.6</c:v>
                </c:pt>
                <c:pt idx="7">
                  <c:v>6.5</c:v>
                </c:pt>
                <c:pt idx="8">
                  <c:v>49.7</c:v>
                </c:pt>
                <c:pt idx="9">
                  <c:v>-39.5</c:v>
                </c:pt>
                <c:pt idx="10">
                  <c:v>10.2</c:v>
                </c:pt>
              </c:numCache>
            </c:numRef>
          </c:val>
        </c:ser>
        <c:gapWidth val="150"/>
        <c:overlap val="0"/>
        <c:axId val="76407907"/>
        <c:axId val="82745495"/>
      </c:barChart>
      <c:catAx>
        <c:axId val="76407907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high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745495"/>
        <c:crosses val="autoZero"/>
        <c:auto val="1"/>
        <c:lblAlgn val="ctr"/>
        <c:lblOffset val="100"/>
        <c:noMultiLvlLbl val="0"/>
      </c:catAx>
      <c:valAx>
        <c:axId val="8274549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407907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уктура доходов консолидированного бюджета района                                   за 1 полугодие 2019 года, тыс.рублей   </a:t>
            </a:r>
          </a:p>
        </c:rich>
      </c:tx>
      <c:layout>
        <c:manualLayout>
          <c:xMode val="edge"/>
          <c:yMode val="edge"/>
          <c:x val="0.161462979482605"/>
          <c:y val="0.00206758034026465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23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966916185083194"/>
          <c:y val="0.145912098298677"/>
          <c:w val="0.78741806616763"/>
          <c:h val="0.71845463137996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оступило доходов  за 1 полугодие  2019 года   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4672a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b4744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8aa64f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725990"/>
              </a:solidFill>
              <a:ln w="0">
                <a:noFill/>
              </a:ln>
            </c:spPr>
          </c:dPt>
          <c:dPt>
            <c:idx val="4"/>
            <c:explosion val="25"/>
            <c:spPr>
              <a:solidFill>
                <a:srgbClr val="4299b0"/>
              </a:soli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dc853e"/>
              </a:solidFill>
              <a:ln w="0">
                <a:noFill/>
              </a:ln>
            </c:spPr>
          </c:dPt>
          <c:dPt>
            <c:idx val="6"/>
            <c:explosion val="25"/>
            <c:spPr>
              <a:solidFill>
                <a:srgbClr val="93a9ce"/>
              </a:solidFill>
              <a:ln w="0">
                <a:noFill/>
              </a:ln>
            </c:spPr>
          </c:dPt>
          <c:dPt>
            <c:idx val="7"/>
            <c:explosion val="25"/>
            <c:spPr>
              <a:solidFill>
                <a:srgbClr val="d09493"/>
              </a:solidFill>
              <a:ln w="0">
                <a:noFill/>
              </a:ln>
            </c:spPr>
          </c:dPt>
          <c:dPt>
            <c:idx val="8"/>
            <c:explosion val="25"/>
            <c:spPr>
              <a:solidFill>
                <a:srgbClr val="b8cd97"/>
              </a:solidFill>
              <a:ln w="0">
                <a:noFill/>
              </a:ln>
            </c:spPr>
          </c:dPt>
          <c:dPt>
            <c:idx val="9"/>
            <c:explosion val="25"/>
            <c:spPr>
              <a:solidFill>
                <a:srgbClr val="a99bbd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7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8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9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10"/>
                <c:pt idx="0">
                  <c:v/>
                </c:pt>
                <c:pt idx="1">
                  <c:v>Подоходный налог с физических лиц</c:v>
                </c:pt>
                <c:pt idx="2">
                  <c:v>Налог на прибыль</c:v>
                </c:pt>
                <c:pt idx="3">
                  <c:v>Налоги на собственность</c:v>
                </c:pt>
                <c:pt idx="4">
                  <c:v>Налог на добавленную стоимость</c:v>
                </c:pt>
                <c:pt idx="5">
                  <c:v>Налоги, уплачиваемые при особых режимах налогообложения</c:v>
                </c:pt>
                <c:pt idx="6">
                  <c:v>Доходы от размещения денежных средств бюджетов</c:v>
                </c:pt>
                <c:pt idx="7">
                  <c:v>Компенсации расходов государства</c:v>
                </c:pt>
                <c:pt idx="8">
                  <c:v>Возврат средств полученных и неиспользованных организациями в прошлом году</c:v>
                </c:pt>
                <c:pt idx="9">
                  <c:v>Прочие платеж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1">
                  <c:v>3124.3</c:v>
                </c:pt>
                <c:pt idx="2">
                  <c:v>24.1</c:v>
                </c:pt>
                <c:pt idx="3">
                  <c:v>1200</c:v>
                </c:pt>
                <c:pt idx="4">
                  <c:v>1123.6</c:v>
                </c:pt>
                <c:pt idx="5">
                  <c:v>551.8</c:v>
                </c:pt>
                <c:pt idx="6">
                  <c:v>21.3</c:v>
                </c:pt>
                <c:pt idx="7">
                  <c:v>479.9</c:v>
                </c:pt>
                <c:pt idx="8">
                  <c:v>286.1</c:v>
                </c:pt>
                <c:pt idx="9">
                  <c:v>284.2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29814218671217"/>
          <c:y val="0.075023629489603"/>
          <c:w val="0.832990730326184"/>
          <c:h val="0.794541587901701"/>
        </c:manualLayout>
      </c:layout>
      <c:barChart>
        <c:barDir val="bar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алоговые и неналоговые доходы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Белицкий</c:v>
                </c:pt>
                <c:pt idx="1">
                  <c:v>Богушевский</c:v>
                </c:pt>
                <c:pt idx="2">
                  <c:v>Богдановский</c:v>
                </c:pt>
                <c:pt idx="3">
                  <c:v>Коковчинский </c:v>
                </c:pt>
                <c:pt idx="4">
                  <c:v>Мошканский</c:v>
                </c:pt>
                <c:pt idx="5">
                  <c:v>Немойтовский</c:v>
                </c:pt>
                <c:pt idx="6">
                  <c:v>Студенковский</c:v>
                </c:pt>
                <c:pt idx="7">
                  <c:v>Ходцевский</c:v>
                </c:pt>
                <c:pt idx="8">
                  <c:v>районный бюджет</c:v>
                </c:pt>
                <c:pt idx="9">
                  <c:v>Всего по району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.370735098186874</c:v>
                </c:pt>
                <c:pt idx="1">
                  <c:v>0.88339222614841</c:v>
                </c:pt>
                <c:pt idx="2">
                  <c:v>0.31570410704976</c:v>
                </c:pt>
                <c:pt idx="3">
                  <c:v>0.362045994323119</c:v>
                </c:pt>
                <c:pt idx="4">
                  <c:v>0.30991137114059</c:v>
                </c:pt>
                <c:pt idx="5">
                  <c:v>0.254880380003476</c:v>
                </c:pt>
                <c:pt idx="6">
                  <c:v>0.312807739095175</c:v>
                </c:pt>
                <c:pt idx="7">
                  <c:v>0.376527834096044</c:v>
                </c:pt>
                <c:pt idx="8">
                  <c:v>96.8139952499566</c:v>
                </c:pt>
                <c:pt idx="9">
                  <c:v>10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Дотации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Белицкий</c:v>
                </c:pt>
                <c:pt idx="1">
                  <c:v>Богушевский</c:v>
                </c:pt>
                <c:pt idx="2">
                  <c:v>Богдановский</c:v>
                </c:pt>
                <c:pt idx="3">
                  <c:v>Коковчинский </c:v>
                </c:pt>
                <c:pt idx="4">
                  <c:v>Мошканский</c:v>
                </c:pt>
                <c:pt idx="5">
                  <c:v>Немойтовский</c:v>
                </c:pt>
                <c:pt idx="6">
                  <c:v>Студенковский</c:v>
                </c:pt>
                <c:pt idx="7">
                  <c:v>Ходцевский</c:v>
                </c:pt>
                <c:pt idx="8">
                  <c:v>районный бюджет</c:v>
                </c:pt>
                <c:pt idx="9">
                  <c:v>Всего по району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"/>
                <c:pt idx="0">
                  <c:v>0.434006317813487</c:v>
                </c:pt>
                <c:pt idx="1">
                  <c:v>0.719681362450213</c:v>
                </c:pt>
                <c:pt idx="2">
                  <c:v>0.401043812663096</c:v>
                </c:pt>
                <c:pt idx="3">
                  <c:v>0.225243785194341</c:v>
                </c:pt>
                <c:pt idx="4">
                  <c:v>0.395550061804697</c:v>
                </c:pt>
                <c:pt idx="5">
                  <c:v>0.332371926933114</c:v>
                </c:pt>
                <c:pt idx="6">
                  <c:v>0.395550061804697</c:v>
                </c:pt>
                <c:pt idx="7">
                  <c:v>0.447740694959484</c:v>
                </c:pt>
                <c:pt idx="8">
                  <c:v>96.6488119763769</c:v>
                </c:pt>
                <c:pt idx="9">
                  <c:v>10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убвенции и иные межбюджетные трансферты 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Белицкий</c:v>
                </c:pt>
                <c:pt idx="1">
                  <c:v>Богушевский</c:v>
                </c:pt>
                <c:pt idx="2">
                  <c:v>Богдановский</c:v>
                </c:pt>
                <c:pt idx="3">
                  <c:v>Коковчинский </c:v>
                </c:pt>
                <c:pt idx="4">
                  <c:v>Мошканский</c:v>
                </c:pt>
                <c:pt idx="5">
                  <c:v>Немойтовский</c:v>
                </c:pt>
                <c:pt idx="6">
                  <c:v>Студенковский</c:v>
                </c:pt>
                <c:pt idx="7">
                  <c:v>Ходцевский</c:v>
                </c:pt>
                <c:pt idx="8">
                  <c:v>районный бюджет</c:v>
                </c:pt>
                <c:pt idx="9">
                  <c:v>Всего по району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0"/>
                <c:pt idx="8">
                  <c:v>100</c:v>
                </c:pt>
                <c:pt idx="9">
                  <c:v>100</c:v>
                </c:pt>
              </c:numCache>
            </c:numRef>
          </c:val>
        </c:ser>
        <c:gapWidth val="150"/>
        <c:overlap val="100"/>
        <c:axId val="83497355"/>
        <c:axId val="86268722"/>
      </c:barChart>
      <c:catAx>
        <c:axId val="83497355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268722"/>
        <c:crosses val="autoZero"/>
        <c:auto val="1"/>
        <c:lblAlgn val="ctr"/>
        <c:lblOffset val="100"/>
        <c:noMultiLvlLbl val="0"/>
      </c:catAx>
      <c:valAx>
        <c:axId val="8626872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497355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1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23"/>
          <c:dPt>
            <c:idx val="0"/>
            <c:explosion val="23"/>
            <c:spPr>
              <a:solidFill>
                <a:srgbClr val="7030a0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23"/>
            <c:spPr>
              <a:solidFill>
                <a:srgbClr val="00b0f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#,##0.0" sourceLinked="1"/>
            <c:dLbl>
              <c:idx val="0"/>
              <c:numFmt formatCode="#,##0.0" sourceLinked="1"/>
              <c:txPr>
                <a:bodyPr wrap="square"/>
                <a:lstStyle/>
                <a:p>
                  <a:pPr>
                    <a:defRPr b="1" sz="15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dLbl>
              <c:idx val="1"/>
              <c:numFmt formatCode="#,##0.0" sourceLinked="1"/>
              <c:txPr>
                <a:bodyPr wrap="square"/>
                <a:lstStyle/>
                <a:p>
                  <a:pPr>
                    <a:defRPr b="1" sz="15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5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2"/>
                <c:pt idx="0">
                  <c:v>Непрограммные</c:v>
                </c:pt>
                <c:pt idx="1">
                  <c:v>Программны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820.7</c:v>
                </c:pt>
                <c:pt idx="1">
                  <c:v>15944.6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, тыс. рублей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15"/>
      <c:rotY val="20"/>
      <c:rAngAx val="0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layout>
        <c:manualLayout>
          <c:layoutTarget val="inner"/>
          <c:xMode val="edge"/>
          <c:yMode val="edge"/>
          <c:x val="0.141495143900918"/>
          <c:y val="0.0528877779239574"/>
          <c:w val="0.468769491223381"/>
          <c:h val="0.92040520984081"/>
        </c:manualLayout>
      </c:layout>
      <c:bar3D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Заработная плата и начисления</c:v>
                </c:pt>
              </c:strCache>
            </c:strRef>
          </c:tx>
          <c:spPr>
            <a:solidFill>
              <a:srgbClr val="8eb4e3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10300.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Коммунальные услуги</c:v>
                </c:pt>
              </c:strCache>
            </c:strRef>
          </c:tx>
          <c:spPr>
            <a:solidFill>
              <a:srgbClr val="d99694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1761.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убсидии</c:v>
                </c:pt>
              </c:strCache>
            </c:strRef>
          </c:tx>
          <c:spPr>
            <a:solidFill>
              <a:srgbClr val="c3d69b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2551.3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Продукты питания и лекарственные средства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848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Текущие трансферты населению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1"/>
                <c:pt idx="0">
                  <c:v>637.3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Прочие</c:v>
                </c:pt>
              </c:strCache>
            </c:strRef>
          </c:tx>
          <c:spPr>
            <a:solidFill>
              <a:srgbClr val="d9d9d9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1"/>
                <c:pt idx="0">
                  <c:v>770.3</c:v>
                </c:pt>
              </c:numCache>
            </c:numRef>
          </c:val>
        </c:ser>
        <c:ser>
          <c:idx val="6"/>
          <c:order val="6"/>
          <c:tx>
            <c:strRef>
              <c:f>label 6</c:f>
              <c:strCache>
                <c:ptCount val="1"/>
                <c:pt idx="0">
                  <c:v>Содержание сооружений благоустройства</c:v>
                </c:pt>
              </c:strCache>
            </c:strRef>
          </c:tx>
          <c:spPr>
            <a:solidFill>
              <a:srgbClr val="7030a0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7030a0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-0.122593305064022"/>
                  <c:y val="0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6</c:f>
              <c:numCache>
                <c:formatCode>General</c:formatCode>
                <c:ptCount val="1"/>
                <c:pt idx="0">
                  <c:v>324</c:v>
                </c:pt>
              </c:numCache>
            </c:numRef>
          </c:val>
        </c:ser>
        <c:ser>
          <c:idx val="7"/>
          <c:order val="7"/>
          <c:tx>
            <c:strRef>
              <c:f>label 7</c:f>
              <c:strCache>
                <c:ptCount val="1"/>
                <c:pt idx="0">
                  <c:v>Обслуживание долга местных органов власти</c:v>
                </c:pt>
              </c:strCache>
            </c:strRef>
          </c:tx>
          <c:spPr>
            <a:solidFill>
              <a:srgbClr val="d09493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7</c:f>
              <c:numCache>
                <c:formatCode>General</c:formatCode>
                <c:ptCount val="1"/>
                <c:pt idx="0">
                  <c:v>72</c:v>
                </c:pt>
              </c:numCache>
            </c:numRef>
          </c:val>
        </c:ser>
        <c:ser>
          <c:idx val="8"/>
          <c:order val="8"/>
          <c:tx>
            <c:strRef>
              <c:f>label 8</c:f>
              <c:strCache>
                <c:ptCount val="1"/>
                <c:pt idx="0">
                  <c:v>Капитальные расходы</c:v>
                </c:pt>
              </c:strCache>
            </c:strRef>
          </c:tx>
          <c:spPr>
            <a:solidFill>
              <a:srgbClr val="b8cd97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8cd97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0.00314341807856472"/>
                  <c:y val="-0.0394510331182196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8</c:f>
              <c:numCache>
                <c:formatCode>General</c:formatCode>
                <c:ptCount val="1"/>
                <c:pt idx="0">
                  <c:v>500.1</c:v>
                </c:pt>
              </c:numCache>
            </c:numRef>
          </c:val>
        </c:ser>
        <c:gapWidth val="150"/>
        <c:shape val="box"/>
        <c:axId val="3893046"/>
        <c:axId val="61414061"/>
        <c:axId val="0"/>
      </c:bar3DChart>
      <c:catAx>
        <c:axId val="3893046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1" lang="ru-RU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</a:rPr>
                  <a:t>Расходы, %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61414061"/>
        <c:auto val="1"/>
        <c:lblAlgn val="ctr"/>
        <c:lblOffset val="100"/>
        <c:noMultiLvlLbl val="0"/>
      </c:catAx>
      <c:valAx>
        <c:axId val="61414061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#,##0.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3893046"/>
        <c:crosses val="autoZero"/>
        <c:crossBetween val="between"/>
      </c:valAx>
    </c:plotArea>
    <c:legend>
      <c:legendPos val="r"/>
      <c:layout>
        <c:manualLayout>
          <c:xMode val="edge"/>
          <c:yMode val="edge"/>
          <c:x val="0.645518228359671"/>
          <c:y val="0.102366631377889"/>
          <c:w val="0.335621263168943"/>
          <c:h val="0.89763336862211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уктура, %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Заработная плата и начисления</c:v>
                </c:pt>
              </c:strCache>
            </c:strRef>
          </c:tx>
          <c:spPr>
            <a:solidFill>
              <a:srgbClr val="8eb4e3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5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Коммунальные услуги</c:v>
                </c:pt>
              </c:strCache>
            </c:strRef>
          </c:tx>
          <c:spPr>
            <a:solidFill>
              <a:srgbClr val="d9969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9.9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убсидии</c:v>
                </c:pt>
              </c:strCache>
            </c:strRef>
          </c:tx>
          <c:spPr>
            <a:solidFill>
              <a:srgbClr val="c3d69b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14.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Продукты питания и лекарственные средства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4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Текущие трансферты населению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1"/>
                <c:pt idx="0">
                  <c:v>3.6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Прочие</c:v>
                </c:pt>
              </c:strCache>
            </c:strRef>
          </c:tx>
          <c:spPr>
            <a:solidFill>
              <a:srgbClr val="e6e0e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1"/>
                <c:pt idx="0">
                  <c:v>4.3</c:v>
                </c:pt>
              </c:numCache>
            </c:numRef>
          </c:val>
        </c:ser>
        <c:ser>
          <c:idx val="6"/>
          <c:order val="6"/>
          <c:tx>
            <c:strRef>
              <c:f>label 6</c:f>
              <c:strCache>
                <c:ptCount val="1"/>
                <c:pt idx="0">
                  <c:v>Содержание сооружений благоустройства</c:v>
                </c:pt>
              </c:strCache>
            </c:strRef>
          </c:tx>
          <c:spPr>
            <a:solidFill>
              <a:srgbClr val="7030a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6</c:f>
              <c:numCache>
                <c:formatCode>General</c:formatCode>
                <c:ptCount val="1"/>
                <c:pt idx="0">
                  <c:v>1.8</c:v>
                </c:pt>
              </c:numCache>
            </c:numRef>
          </c:val>
        </c:ser>
        <c:ser>
          <c:idx val="7"/>
          <c:order val="7"/>
          <c:tx>
            <c:strRef>
              <c:f>label 7</c:f>
              <c:strCache>
                <c:ptCount val="1"/>
                <c:pt idx="0">
                  <c:v>Обслуживание долга местных органов власти</c:v>
                </c:pt>
              </c:strCache>
            </c:strRef>
          </c:tx>
          <c:spPr>
            <a:solidFill>
              <a:srgbClr val="d09493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d09493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-0.0691280439905734"/>
                  <c:y val="0.00235159056401139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7</c:f>
              <c:numCache>
                <c:formatCode>General</c:formatCode>
                <c:ptCount val="1"/>
                <c:pt idx="0">
                  <c:v>0.4</c:v>
                </c:pt>
              </c:numCache>
            </c:numRef>
          </c:val>
        </c:ser>
        <c:ser>
          <c:idx val="8"/>
          <c:order val="8"/>
          <c:tx>
            <c:strRef>
              <c:f>label 8</c:f>
              <c:strCache>
                <c:ptCount val="1"/>
                <c:pt idx="0">
                  <c:v>Капитальные расходы</c:v>
                </c:pt>
              </c:strCache>
            </c:strRef>
          </c:tx>
          <c:spPr>
            <a:solidFill>
              <a:srgbClr val="b8cd97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8cd97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"/>
                  <c:y val="-0.0329222678961597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8</c:f>
              <c:numCache>
                <c:formatCode>General</c:formatCode>
                <c:ptCount val="1"/>
                <c:pt idx="0">
                  <c:v>2.8</c:v>
                </c:pt>
              </c:numCache>
            </c:numRef>
          </c:val>
        </c:ser>
        <c:gapWidth val="150"/>
        <c:shape val="box"/>
        <c:axId val="66702463"/>
        <c:axId val="87229930"/>
        <c:axId val="0"/>
      </c:bar3DChart>
      <c:catAx>
        <c:axId val="66702463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1" lang="ru-RU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</a:rPr>
                  <a:t>Всего расходов 17765,3 тыс. рублей</a:t>
                </a:r>
              </a:p>
            </c:rich>
          </c:tx>
          <c:layout>
            <c:manualLayout>
              <c:xMode val="edge"/>
              <c:yMode val="edge"/>
              <c:x val="0.109379175202637"/>
              <c:y val="0.865551259832022"/>
            </c:manualLayout>
          </c:layout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229930"/>
        <c:auto val="1"/>
        <c:lblAlgn val="ctr"/>
        <c:lblOffset val="100"/>
        <c:noMultiLvlLbl val="0"/>
      </c:catAx>
      <c:valAx>
        <c:axId val="87229930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66702463"/>
        <c:crosses val="autoZero"/>
        <c:crossBetween val="between"/>
      </c:valAx>
    </c:plotArea>
    <c:legend>
      <c:legendPos val="r"/>
      <c:layout>
        <c:manualLayout>
          <c:xMode val="edge"/>
          <c:yMode val="edge"/>
          <c:x val="0.645003989583786"/>
          <c:y val="0.0884331370588453"/>
          <c:w val="0.336142907509697"/>
          <c:h val="0.88427489538199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209634358676727</cdr:x>
      <cdr:y>0.0300751879699248</cdr:y>
    </cdr:from>
    <cdr:to>
      <cdr:x>0.762391178177597</cdr:x>
      <cdr:y>0.10271742347996</cdr:y>
    </cdr:to>
    <cdr:sp>
      <cdr:nvSpPr>
        <cdr:cNvPr id="172" name="TextBox 2"/>
        <cdr:cNvSpPr/>
      </cdr:nvSpPr>
      <cdr:spPr>
        <a:xfrm>
          <a:off x="1950480" y="182880"/>
          <a:ext cx="5142960" cy="44172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0" lang="ru-RU" sz="1100" spc="-1" strike="noStrike">
              <a:solidFill>
                <a:srgbClr val="000000"/>
              </a:solidFill>
              <a:latin typeface="Times New Roman"/>
            </a:rPr>
            <a:t>Структура собственных доходов консолидированного бюджета Сенненского района в разрезе бюджетов за 1 полугодие 2019 года, тыс.рублей</a:t>
          </a:r>
          <a:endParaRPr b="0" sz="11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drawings/drawing2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118488926812241</cdr:x>
      <cdr:y>0</cdr:y>
    </cdr:from>
    <cdr:to>
      <cdr:x>0.874840010859869</cdr:x>
      <cdr:y>0.0907372400756144</cdr:y>
    </cdr:to>
    <cdr:sp>
      <cdr:nvSpPr>
        <cdr:cNvPr id="174" name="TextBox 1"/>
        <cdr:cNvSpPr/>
      </cdr:nvSpPr>
      <cdr:spPr>
        <a:xfrm>
          <a:off x="1099800" y="0"/>
          <a:ext cx="7020360" cy="55296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0" lang="ru-RU" sz="1400" spc="-1" strike="noStrike">
              <a:solidFill>
                <a:srgbClr val="000000"/>
              </a:solidFill>
              <a:latin typeface="Times New Roman"/>
            </a:rPr>
            <a:t>Сравнительный анализ поступления собственных  доходов бюджета Сенненского района за 1 полугодие 2018 и 1 полугодие 2019 годы, тыс.рублей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drawings/drawing3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145987666291743</cdr:x>
      <cdr:y>0.0128780718336484</cdr:y>
    </cdr:from>
    <cdr:to>
      <cdr:x>0.875887212504363</cdr:x>
      <cdr:y>0.0708293950850662</cdr:y>
    </cdr:to>
    <cdr:sp>
      <cdr:nvSpPr>
        <cdr:cNvPr id="178" name="TextBox 1"/>
        <cdr:cNvSpPr/>
      </cdr:nvSpPr>
      <cdr:spPr>
        <a:xfrm>
          <a:off x="1355040" y="78480"/>
          <a:ext cx="6774840" cy="35316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0" lang="ru-RU" sz="1400" spc="-1" strike="noStrike">
              <a:solidFill>
                <a:srgbClr val="000000"/>
              </a:solidFill>
              <a:latin typeface="Times New Roman"/>
            </a:rPr>
            <a:t>Структура доходов бюджета Сенненского  района за 1 полугодие 2019 года, тыс.рублей 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829-8CF1-44F9-9D82-41EE630A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DAA-1339-4F54-B26B-A4445C85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9E3-19E3-42AE-A422-704AE961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187-C735-4D7D-A972-9F3ECC4B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4C4B-76A7-4D1E-80D6-406984F8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3601-A223-4E00-B178-5B252407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35B3-651A-4EFB-A84F-BDD76751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AA3E-DFAD-4692-A716-ACF5CC2C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2539-EF54-4553-9195-3C2FBBAA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BF6C-2DC0-4D67-A468-E111BC1C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CEF5-50AE-40D7-8911-2A705B0A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EDE-BFE8-4C10-A22C-0EC8375D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2B4B-80EB-4302-8DB3-AF4D5670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BB45-A3F7-495F-9814-02604F0A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D3B2-14A0-44E1-B79C-1B377D62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EA63-F6D3-4455-B504-7FED9D83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DB3F-FA89-4F8F-B3E5-23F77CAB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B7FD1-CB6E-4687-A8B0-C67DE3F9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7BE3-A4B6-4B8A-B4C1-51190E84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8DB5-2153-47AB-AB19-0A1B971B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FEE5-6B65-437F-AE72-30695F33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425D-DAD8-4150-AEB5-C75911F8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68A-F93C-448B-811D-4EE5C1B6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E9A36-4705-4F21-BDDF-00D57654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03E6D-D348-4265-B691-D55C56A2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CAEC-D49F-4F39-BE88-A4D59202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47C4F-A22E-4AE2-9E1B-30C6A11A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E5AC-DC49-46BC-A26C-414FC9E0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6E41-7FC3-4CF8-AD56-0FEF5038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DEB13-FFB5-4141-91C7-93AB489F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6984C-B62F-47E4-BD09-76B488DD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16389-E7D7-44BC-BED0-4D9767AD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2384D-258C-4D7C-A696-FB2DE801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499-1D0D-4AB3-8487-D6DB590B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86389-09B7-41DF-90CC-9CDF5FC7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B89A-66A6-48EC-8DC3-93664E5A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459F9-CA0F-462D-8105-497B397A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A8693-643F-4DEB-B25A-2CBD72B1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EEF11-3E4B-4850-95F3-588E434C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2F776-02A3-484B-A98A-8EC5FF08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C2855-6FB9-4A52-A63F-C8066B52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6F38C-6BB0-44D5-B141-73837144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98303-24CF-463C-917D-10525496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9EB-CA84-4ED1-AC75-BE9F4645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A27-C2E6-41CF-94D4-7402CDA2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CB3-DE97-40BB-B948-FB8EFB3F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30D-6FDA-457F-8578-E796B5BD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AD5-D6E2-4ED1-93B0-8D5ED1B3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CFD906-6E27-4518-B7C8-2B25586156E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55E7F2-C69F-4A7E-9CDB-C26C28F6BFA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5C2CFC-00C7-4A09-9B91-F306193B91C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A447BF-1630-400A-9352-42684AB5DD8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chart" Target="../charts/chart9.xml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chart" Target="../charts/chart11.xml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chart" Target="../charts/chart13.xml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152880" y="2500200"/>
            <a:ext cx="5764320" cy="4000320"/>
          </a:xfrm>
          <a:prstGeom prst="rect">
            <a:avLst/>
          </a:prstGeom>
          <a:ln w="9525">
            <a:noFill/>
          </a:ln>
        </p:spPr>
      </p:pic>
      <p:sp>
        <p:nvSpPr>
          <p:cNvPr id="168" name="TextBox 3"/>
          <p:cNvSpPr/>
          <p:nvPr/>
        </p:nvSpPr>
        <p:spPr>
          <a:xfrm>
            <a:off x="214200" y="285840"/>
            <a:ext cx="714348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юллетень об исполнении консолидированного  бюджета Сенненского района   за 1 полугодие 2019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Овал 6"/>
          <p:cNvSpPr/>
          <p:nvPr/>
        </p:nvSpPr>
        <p:spPr>
          <a:xfrm>
            <a:off x="3008520" y="2946960"/>
            <a:ext cx="2943000" cy="1554480"/>
          </a:xfrm>
          <a:prstGeom prst="ellipse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</a:pP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Государственные програм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</a:pP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15</a:t>
            </a:r>
            <a:r>
              <a:rPr b="1" lang="en-US" sz="1200" spc="-1" strike="noStrike">
                <a:solidFill>
                  <a:schemeClr val="lt1"/>
                </a:solidFill>
                <a:latin typeface="Calibri"/>
                <a:ea typeface="Calibri"/>
              </a:rPr>
              <a:t> </a:t>
            </a: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944,6 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</a:pP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 </a:t>
            </a: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(90,0% расходов) бюдже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Блок-схема: решение 7"/>
          <p:cNvSpPr/>
          <p:nvPr/>
        </p:nvSpPr>
        <p:spPr>
          <a:xfrm>
            <a:off x="4565880" y="54360"/>
            <a:ext cx="2771280" cy="156168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Увековечивание погибших при защите Отечества и сохранение памяти о жертвах войн 10,2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Блок-схема: решение 8"/>
          <p:cNvSpPr/>
          <p:nvPr/>
        </p:nvSpPr>
        <p:spPr>
          <a:xfrm>
            <a:off x="2349360" y="201960"/>
            <a:ext cx="2152440" cy="122544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Охрана окружающей среды 14,8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Блок-схема: решение 9"/>
          <p:cNvSpPr/>
          <p:nvPr/>
        </p:nvSpPr>
        <p:spPr>
          <a:xfrm>
            <a:off x="139320" y="577440"/>
            <a:ext cx="2209320" cy="139284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Строительство жилья</a:t>
            </a:r>
            <a:r>
              <a:rPr b="0" lang="ru-RU" sz="1100" spc="-1" strike="noStrike">
                <a:solidFill>
                  <a:schemeClr val="dk1"/>
                </a:solidFill>
                <a:latin typeface="Calibri"/>
                <a:ea typeface="Calibri"/>
              </a:rPr>
              <a:t> 11</a:t>
            </a: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,9 тыс.</a:t>
            </a:r>
            <a:r>
              <a:rPr b="0" lang="ru-RU" sz="1100" spc="-1" strike="noStrike">
                <a:solidFill>
                  <a:schemeClr val="dk1"/>
                </a:solidFill>
                <a:latin typeface="Calibri"/>
                <a:ea typeface="Calibri"/>
              </a:rPr>
              <a:t> </a:t>
            </a: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Блок-схема: решение 10"/>
          <p:cNvSpPr/>
          <p:nvPr/>
        </p:nvSpPr>
        <p:spPr>
          <a:xfrm>
            <a:off x="7109640" y="457200"/>
            <a:ext cx="1999800" cy="144756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Развитее транспортного комплекса  16,1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Блок-схема: решение 11"/>
          <p:cNvSpPr/>
          <p:nvPr/>
        </p:nvSpPr>
        <p:spPr>
          <a:xfrm>
            <a:off x="6595920" y="2185560"/>
            <a:ext cx="2496960" cy="118080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Развитие физической культуры и спорта 259,6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Блок-схема: решение 12"/>
          <p:cNvSpPr/>
          <p:nvPr/>
        </p:nvSpPr>
        <p:spPr>
          <a:xfrm>
            <a:off x="6323760" y="3699360"/>
            <a:ext cx="2819880" cy="126756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Образование и молодежная политика 7 802,3 тыс. руб</a:t>
            </a:r>
            <a:r>
              <a:rPr b="0" lang="ru-RU" sz="11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Блок-схема: решение 13"/>
          <p:cNvSpPr/>
          <p:nvPr/>
        </p:nvSpPr>
        <p:spPr>
          <a:xfrm>
            <a:off x="5721120" y="5180760"/>
            <a:ext cx="3447720" cy="115200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Социальная защита и содействие занятости 688,7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Блок-схема: решение 14"/>
          <p:cNvSpPr/>
          <p:nvPr/>
        </p:nvSpPr>
        <p:spPr>
          <a:xfrm>
            <a:off x="3053520" y="5572080"/>
            <a:ext cx="3438000" cy="113328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Здоровье народа и демографическая безопасность 3 677,1 тыс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Блок-схема: решение 15"/>
          <p:cNvSpPr/>
          <p:nvPr/>
        </p:nvSpPr>
        <p:spPr>
          <a:xfrm>
            <a:off x="1000080" y="5124600"/>
            <a:ext cx="2752200" cy="89496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Культура Беларуси 575,9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Блок-схема: решение 16"/>
          <p:cNvSpPr/>
          <p:nvPr/>
        </p:nvSpPr>
        <p:spPr>
          <a:xfrm>
            <a:off x="0" y="2305080"/>
            <a:ext cx="2800080" cy="81864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Развитие аграрного бизнеса 326,7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Блок-схема: решение 17"/>
          <p:cNvSpPr/>
          <p:nvPr/>
        </p:nvSpPr>
        <p:spPr>
          <a:xfrm>
            <a:off x="0" y="3519360"/>
            <a:ext cx="2964960" cy="144756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Комфортное жилье и благоприятная среда 2 561,3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Прямая соединительная линия 18"/>
          <p:cNvCxnSpPr/>
          <p:nvPr/>
        </p:nvCxnSpPr>
        <p:spPr>
          <a:xfrm flipV="1">
            <a:off x="5057640" y="1427400"/>
            <a:ext cx="651960" cy="151596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196" name="Прямая соединительная линия 19"/>
          <p:cNvCxnSpPr/>
          <p:nvPr/>
        </p:nvCxnSpPr>
        <p:spPr>
          <a:xfrm flipH="1" flipV="1">
            <a:off x="3562200" y="1391040"/>
            <a:ext cx="1154160" cy="155232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197" name="Прямая соединительная линия 20"/>
          <p:cNvCxnSpPr/>
          <p:nvPr/>
        </p:nvCxnSpPr>
        <p:spPr>
          <a:xfrm flipH="1" flipV="1">
            <a:off x="1414440" y="1844640"/>
            <a:ext cx="2338560" cy="117036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198" name="Прямая соединительная линия 21"/>
          <p:cNvCxnSpPr/>
          <p:nvPr/>
        </p:nvCxnSpPr>
        <p:spPr>
          <a:xfrm flipH="1" flipV="1">
            <a:off x="1800720" y="3014640"/>
            <a:ext cx="1253160" cy="51948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199" name="Прямая соединительная линия 22"/>
          <p:cNvCxnSpPr/>
          <p:nvPr/>
        </p:nvCxnSpPr>
        <p:spPr>
          <a:xfrm flipH="1">
            <a:off x="2349000" y="4333320"/>
            <a:ext cx="1213560" cy="22932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0" name="Прямая соединительная линия 23"/>
          <p:cNvCxnSpPr>
            <a:stCxn id="183" idx="4"/>
          </p:cNvCxnSpPr>
          <p:nvPr/>
        </p:nvCxnSpPr>
        <p:spPr>
          <a:xfrm flipH="1">
            <a:off x="3411720" y="4501440"/>
            <a:ext cx="1068840" cy="94716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1" name="Прямая соединительная линия 24"/>
          <p:cNvCxnSpPr>
            <a:endCxn id="191" idx="0"/>
          </p:cNvCxnSpPr>
          <p:nvPr/>
        </p:nvCxnSpPr>
        <p:spPr>
          <a:xfrm>
            <a:off x="4772880" y="4510800"/>
            <a:ext cx="360" cy="106164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2" name="Прямая соединительная линия 25"/>
          <p:cNvCxnSpPr/>
          <p:nvPr/>
        </p:nvCxnSpPr>
        <p:spPr>
          <a:xfrm flipH="1">
            <a:off x="5453280" y="1623960"/>
            <a:ext cx="2284920" cy="147672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3" name="Прямая соединительная линия 26"/>
          <p:cNvCxnSpPr/>
          <p:nvPr/>
        </p:nvCxnSpPr>
        <p:spPr>
          <a:xfrm flipH="1">
            <a:off x="5931720" y="3247920"/>
            <a:ext cx="1633320" cy="25992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4" name="Прямая соединительная линия 27"/>
          <p:cNvCxnSpPr/>
          <p:nvPr/>
        </p:nvCxnSpPr>
        <p:spPr>
          <a:xfrm flipH="1">
            <a:off x="5891400" y="4005000"/>
            <a:ext cx="1190880" cy="1440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5" name="Прямая соединительная линия 28"/>
          <p:cNvCxnSpPr/>
          <p:nvPr/>
        </p:nvCxnSpPr>
        <p:spPr>
          <a:xfrm>
            <a:off x="5540760" y="4287600"/>
            <a:ext cx="1055160" cy="116100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sp>
        <p:nvSpPr>
          <p:cNvPr id="206" name="Rectangle 2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95640" y="5517360"/>
            <a:ext cx="641520" cy="8758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1115640" y="938160"/>
            <a:ext cx="2736000" cy="7495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60800" y="946080"/>
            <a:ext cx="640440" cy="74160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4"/>
          <p:cNvSpPr/>
          <p:nvPr/>
        </p:nvSpPr>
        <p:spPr>
          <a:xfrm>
            <a:off x="1130040" y="5479200"/>
            <a:ext cx="2649240" cy="91404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365040" y="1983240"/>
            <a:ext cx="640440" cy="8017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1249560" y="938160"/>
            <a:ext cx="230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 650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1115640" y="1914840"/>
            <a:ext cx="2750040" cy="78264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096560" y="1983240"/>
            <a:ext cx="20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дравоох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765,2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4"/>
          <a:stretch/>
        </p:blipFill>
        <p:spPr>
          <a:xfrm>
            <a:off x="396720" y="2851560"/>
            <a:ext cx="640440" cy="8449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0"/>
          <p:cNvSpPr/>
          <p:nvPr/>
        </p:nvSpPr>
        <p:spPr>
          <a:xfrm>
            <a:off x="1112040" y="2851560"/>
            <a:ext cx="2739240" cy="8017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1167120" y="357588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1122120" y="2929680"/>
            <a:ext cx="2729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ая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41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5"/>
          <a:stretch/>
        </p:blipFill>
        <p:spPr>
          <a:xfrm>
            <a:off x="251640" y="3945240"/>
            <a:ext cx="785520" cy="9234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4"/>
          <p:cNvSpPr/>
          <p:nvPr/>
        </p:nvSpPr>
        <p:spPr>
          <a:xfrm>
            <a:off x="1122120" y="3945240"/>
            <a:ext cx="2743560" cy="12355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1128240" y="3980880"/>
            <a:ext cx="2724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лищно-коммун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, жилищ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573,1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5868000" y="1060920"/>
            <a:ext cx="2953800" cy="11437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1217160" y="5483160"/>
            <a:ext cx="2562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42,6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6"/>
          <a:stretch/>
        </p:blipFill>
        <p:spPr>
          <a:xfrm>
            <a:off x="4644000" y="1101240"/>
            <a:ext cx="1064520" cy="11077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9"/>
          <p:cNvSpPr/>
          <p:nvPr/>
        </p:nvSpPr>
        <p:spPr>
          <a:xfrm>
            <a:off x="5868000" y="1008720"/>
            <a:ext cx="2953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еская культура, спорт, культура и средства масс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92,8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7"/>
          <a:stretch/>
        </p:blipFill>
        <p:spPr>
          <a:xfrm>
            <a:off x="4644000" y="2563200"/>
            <a:ext cx="1064520" cy="8913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21"/>
          <p:cNvSpPr/>
          <p:nvPr/>
        </p:nvSpPr>
        <p:spPr>
          <a:xfrm>
            <a:off x="5868720" y="3614760"/>
            <a:ext cx="2980080" cy="14569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TextBox 22"/>
          <p:cNvSpPr/>
          <p:nvPr/>
        </p:nvSpPr>
        <p:spPr>
          <a:xfrm>
            <a:off x="5860800" y="2358000"/>
            <a:ext cx="2952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ые органы общего на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170,1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8"/>
          <a:stretch/>
        </p:blipFill>
        <p:spPr>
          <a:xfrm>
            <a:off x="4644000" y="3654000"/>
            <a:ext cx="1064520" cy="1215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24"/>
          <p:cNvSpPr/>
          <p:nvPr/>
        </p:nvSpPr>
        <p:spPr>
          <a:xfrm>
            <a:off x="5895360" y="5315760"/>
            <a:ext cx="2953800" cy="92088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Прямоугольник 25"/>
          <p:cNvSpPr/>
          <p:nvPr/>
        </p:nvSpPr>
        <p:spPr>
          <a:xfrm>
            <a:off x="5868000" y="2357280"/>
            <a:ext cx="2953800" cy="92088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9"/>
          <a:stretch/>
        </p:blipFill>
        <p:spPr>
          <a:xfrm>
            <a:off x="4390920" y="5374080"/>
            <a:ext cx="135684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7"/>
          <p:cNvSpPr/>
          <p:nvPr/>
        </p:nvSpPr>
        <p:spPr>
          <a:xfrm>
            <a:off x="5891040" y="3617280"/>
            <a:ext cx="28011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служивание долга органов местного управления и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2,0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8"/>
          <p:cNvSpPr/>
          <p:nvPr/>
        </p:nvSpPr>
        <p:spPr>
          <a:xfrm>
            <a:off x="5919840" y="5374080"/>
            <a:ext cx="289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по другим разде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7,7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9"/>
          <p:cNvSpPr/>
          <p:nvPr/>
        </p:nvSpPr>
        <p:spPr>
          <a:xfrm>
            <a:off x="460800" y="85680"/>
            <a:ext cx="838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 расходов консолидированного бюджета по функциональной классификации за 1 полугодие 201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уктура расходов бюджета  за 1 полугодие 2019 года, тыс. рубл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Объект 3"/>
          <p:cNvGraphicFramePr/>
          <p:nvPr/>
        </p:nvGraphicFramePr>
        <p:xfrm>
          <a:off x="457200" y="1481040"/>
          <a:ext cx="7714800" cy="4539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Экономическая классификация консолидированного бюджета 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Объект 7"/>
          <p:cNvGraphicFramePr/>
          <p:nvPr/>
        </p:nvGraphicFramePr>
        <p:xfrm>
          <a:off x="457200" y="1124640"/>
          <a:ext cx="4039920" cy="547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0" name="Объект 8"/>
          <p:cNvGraphicFramePr/>
          <p:nvPr/>
        </p:nvGraphicFramePr>
        <p:xfrm>
          <a:off x="4645080" y="1124640"/>
          <a:ext cx="4041360" cy="54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 и структура расходов консолидированного бюджета на национальную экономику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Объект 6"/>
          <p:cNvGraphicFramePr/>
          <p:nvPr/>
        </p:nvGraphicFramePr>
        <p:xfrm>
          <a:off x="457200" y="1124640"/>
          <a:ext cx="4039920" cy="5184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3" name="Объект 7"/>
          <p:cNvGraphicFramePr/>
          <p:nvPr/>
        </p:nvGraphicFramePr>
        <p:xfrm>
          <a:off x="4645080" y="1196640"/>
          <a:ext cx="4041360" cy="511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39052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уктура расходов консолидированного бюджета Сенненского района по функциональной классификации за 1 полугодие  2019 года (в процентах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Объект 6"/>
          <p:cNvGraphicFramePr/>
          <p:nvPr/>
        </p:nvGraphicFramePr>
        <p:xfrm>
          <a:off x="457200" y="1444680"/>
          <a:ext cx="4039920" cy="5296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6" name="Объект 7"/>
          <p:cNvGraphicFramePr/>
          <p:nvPr/>
        </p:nvGraphicFramePr>
        <p:xfrm>
          <a:off x="4645080" y="1444680"/>
          <a:ext cx="4247640" cy="5223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6000"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дения о расходах на выплату государственной адресной социальной помощи, бесплатное обеспечение продуктами питания детей первых двух лет жизни по Сенненскому району за 1 полугодие 2019 года</a:t>
            </a:r>
            <a:br>
              <a:rPr sz="44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Объект 1"/>
          <p:cNvGraphicFramePr/>
          <p:nvPr/>
        </p:nvGraphicFramePr>
        <p:xfrm>
          <a:off x="457200" y="1197000"/>
          <a:ext cx="8229240" cy="5519880"/>
        </p:xfrm>
        <a:graphic>
          <a:graphicData uri="http://schemas.openxmlformats.org/drawingml/2006/table">
            <a:tbl>
              <a:tblPr/>
              <a:tblGrid>
                <a:gridCol w="3754440"/>
                <a:gridCol w="1296000"/>
                <a:gridCol w="1512000"/>
                <a:gridCol w="1666440"/>
              </a:tblGrid>
              <a:tr h="94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Един. изме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Процент исполнения к годовому пла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6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. Государственная адресная социальная помощь – вс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6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6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единовременное социальное посо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6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ежемесячное социальное посо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социальное пособие для возмещения затрат на приобретение подгуз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9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Число получ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94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. Бесплатное обеспечение продуктами питания детей первых двух лет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Число получ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Таблица 39"/>
          <p:cNvGraphicFramePr/>
          <p:nvPr/>
        </p:nvGraphicFramePr>
        <p:xfrm>
          <a:off x="484200" y="1268640"/>
          <a:ext cx="8208720" cy="4680000"/>
        </p:xfrm>
        <a:graphic>
          <a:graphicData uri="http://schemas.openxmlformats.org/drawingml/2006/table">
            <a:tbl>
              <a:tblPr/>
              <a:tblGrid>
                <a:gridCol w="4348440"/>
                <a:gridCol w="3860280"/>
              </a:tblGrid>
              <a:tr h="7434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иды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сего по органам местного управления и само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43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Долг органов местного управления и само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 55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82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1Ценные бумаги (облига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 35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68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  <a:ea typeface="Calibri"/>
                        </a:rPr>
                        <a:t>1.2. Бюджет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2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85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Долг, гарантированный местными исполнительными и распорядительными органами по кредитам банков, выданным субъектам хозяй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9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82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ТОГО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 24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cxnSp>
        <p:nvCxnSpPr>
          <p:cNvPr id="250" name="Прямая соединительная линия 48"/>
          <p:cNvCxnSpPr/>
          <p:nvPr/>
        </p:nvCxnSpPr>
        <p:spPr>
          <a:xfrm>
            <a:off x="2806560" y="9675720"/>
            <a:ext cx="3621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251" name="Rectangle 67"/>
          <p:cNvSpPr/>
          <p:nvPr/>
        </p:nvSpPr>
        <p:spPr>
          <a:xfrm>
            <a:off x="412200" y="335880"/>
            <a:ext cx="8280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овые обязательства органов местного управления и самоуправления Сенненского района на 1 июля 2019  г.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 бюджета Сенненского района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Объект 3"/>
          <p:cNvGraphicFramePr/>
          <p:nvPr/>
        </p:nvGraphicFramePr>
        <p:xfrm>
          <a:off x="457200" y="1481040"/>
          <a:ext cx="8229240" cy="4899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Диаграмма 3"/>
          <p:cNvGraphicFramePr/>
          <p:nvPr/>
        </p:nvGraphicFramePr>
        <p:xfrm>
          <a:off x="-79920" y="388800"/>
          <a:ext cx="9303840" cy="6080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Диаграмма 2"/>
          <p:cNvGraphicFramePr/>
          <p:nvPr/>
        </p:nvGraphicFramePr>
        <p:xfrm>
          <a:off x="-137880" y="763920"/>
          <a:ext cx="9281520" cy="609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Диаграмма 3"/>
          <p:cNvGraphicFramePr/>
          <p:nvPr/>
        </p:nvGraphicFramePr>
        <p:xfrm>
          <a:off x="-69120" y="399600"/>
          <a:ext cx="9281520" cy="6058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Диаграмма 3"/>
          <p:cNvGraphicFramePr/>
          <p:nvPr/>
        </p:nvGraphicFramePr>
        <p:xfrm>
          <a:off x="-69120" y="381960"/>
          <a:ext cx="9281520" cy="609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Диаграмма 3"/>
          <p:cNvGraphicFramePr/>
          <p:nvPr/>
        </p:nvGraphicFramePr>
        <p:xfrm>
          <a:off x="-69120" y="381960"/>
          <a:ext cx="9281520" cy="609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2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онсолидированный бюджет района за 1 полугодие 2019 года исполнен по доходам в сумме 17 799,6 тыс. рублей, по расходам  - 17 765,3 тыс. рублей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ступления  собственных доходов бюджета Сенненского района составили 7095,3 тыс. рублей или 49,4 процента к годовому плану. Налоговые доходы поступили в сумме 6 083,3 тыс. рублей, неналоговые доходы – 1 012,0 тыс. рублей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из областного бюджета в структуре доходов бюджета района составили 60,1 процента ( 10 704,3 тыс. рублей), из них дотация – 57,5 процента (10 237,2 тыс. рублей), субвенции – 0,1 процента (7,1 тыс. рублей), иные межбюджетные трансферты – 2,6 процента ( 460,0 тыс. рублей)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Расходы консолидированного бюджета района за 1 полугодие 2019 года профинансированы в сумме 17 765,3 тыс. рублей или 50,4 процента к годовому плану. В объеме расходов бюджета района средства, предусмотренные на текущие расходы, составляют 17 265,2,6 тыс. рублей или 97,2 процента всех расходов, из них расходы на выплату заработной платы с начислениями на нее, трансфертов населению, расчеты за лекарственные средства, продукты питания, коммунальные услуги, субсидирование жилищно-коммунальных и транспортных услуг населению, расчеты за топливо, отпускаемое населению, обслуживание долга – 15965,5 тыс. рублей или 89,9 процента. Расходы капитального характера профинансированы в сумме 500,1 тыс. рублей или 2,8 процента всех расходов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3"/>
          <p:cNvSpPr/>
          <p:nvPr/>
        </p:nvSpPr>
        <p:spPr>
          <a:xfrm>
            <a:off x="683640" y="404640"/>
            <a:ext cx="7632360" cy="1223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бвенции – 7,1 тыс. руб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рансферт, передаваемый бюджету области на осуществление целевых расход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flipH="1">
            <a:off x="1871640" y="2069280"/>
            <a:ext cx="475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индексированным жилищным квотам (чеки «Жилье») – 7,1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9"/>
          <p:cNvSpPr/>
          <p:nvPr/>
        </p:nvSpPr>
        <p:spPr>
          <a:xfrm>
            <a:off x="1691640" y="2069280"/>
            <a:ext cx="5112360" cy="636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  <Words>824</Words>
  <Paragraphs>1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2T12:26:12Z</dcterms:created>
  <dc:creator>doxod</dc:creator>
  <dc:description/>
  <dc:language>en-US</dc:language>
  <cp:lastModifiedBy>GVV</cp:lastModifiedBy>
  <cp:lastPrinted>2019-07-18T08:22:45Z</cp:lastPrinted>
  <dcterms:modified xsi:type="dcterms:W3CDTF">2019-08-06T09:35:32Z</dcterms:modified>
  <cp:revision>17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