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3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в 1 полугодии 2018 года,   
(тыс. рублей)</a:t>
            </a:r>
          </a:p>
        </c:rich>
      </c:tx>
      <c:layout>
        <c:manualLayout>
          <c:xMode val="edge"/>
          <c:yMode val="edge"/>
          <c:x val="0.0938188976377953"/>
          <c:y val="0.0123637642095394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36220472440945"/>
          <c:y val="0.156275635767022"/>
          <c:w val="0.844409448818898"/>
          <c:h val="0.7409469119887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доходов в 2017 году</c:v>
                </c:pt>
              </c:strCache>
            </c:strRef>
          </c:tx>
          <c:spPr>
            <a:solidFill>
              <a:srgbClr val="b83d68"/>
            </a:solidFill>
            <a:ln w="9360">
              <a:solidFill>
                <a:srgbClr val="652038"/>
              </a:solidFill>
              <a:round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9360">
                <a:solidFill>
                  <a:srgbClr val="652038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6 280,2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40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Не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804,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5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2"/>
              <c:numFmt formatCode="#,##0.0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 Безвозмездные 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поступления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8 284,3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53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 Black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3"/>
                <c:pt idx="0">
                  <c:v>Налоговые доходы</c:v>
                </c:pt>
                <c:pt idx="1">
                  <c:v>Неналоговые доходы</c:v>
                </c:pt>
                <c:pt idx="2">
                  <c:v>Безвозмездные поступл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280.2</c:v>
                </c:pt>
                <c:pt idx="1">
                  <c:v>804.9</c:v>
                </c:pt>
                <c:pt idx="2">
                  <c:v>8284.3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97086614173228"/>
          <c:y val="0.0309836371554781"/>
          <c:w val="0.640905511811024"/>
          <c:h val="0.808125427735955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362.8</c:v>
                </c:pt>
                <c:pt idx="1">
                  <c:v>113.8</c:v>
                </c:pt>
                <c:pt idx="2">
                  <c:v>203.4</c:v>
                </c:pt>
                <c:pt idx="3">
                  <c:v>827.5</c:v>
                </c:pt>
                <c:pt idx="4">
                  <c:v>372</c:v>
                </c:pt>
                <c:pt idx="5">
                  <c:v>965.3</c:v>
                </c:pt>
                <c:pt idx="6">
                  <c:v>2326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420.5</c:v>
                </c:pt>
                <c:pt idx="1">
                  <c:v>138</c:v>
                </c:pt>
                <c:pt idx="2">
                  <c:v>242.1</c:v>
                </c:pt>
                <c:pt idx="3">
                  <c:v>950.2</c:v>
                </c:pt>
                <c:pt idx="4">
                  <c:v>919.3</c:v>
                </c:pt>
                <c:pt idx="5">
                  <c:v>1082.2</c:v>
                </c:pt>
                <c:pt idx="6">
                  <c:v>2821.9</c:v>
                </c:pt>
              </c:numCache>
            </c:numRef>
          </c:val>
        </c:ser>
        <c:gapWidth val="150"/>
        <c:overlap val="0"/>
        <c:axId val="89305958"/>
        <c:axId val="87261227"/>
      </c:barChart>
      <c:catAx>
        <c:axId val="8930595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87261227"/>
        <c:crosses val="autoZero"/>
        <c:auto val="1"/>
        <c:lblAlgn val="ctr"/>
        <c:lblOffset val="100"/>
        <c:noMultiLvlLbl val="0"/>
      </c:catAx>
      <c:valAx>
        <c:axId val="8726122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89305958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-е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0.9</c:v>
                </c:pt>
                <c:pt idx="1">
                  <c:v>17.3</c:v>
                </c:pt>
                <c:pt idx="2">
                  <c:v>47.5</c:v>
                </c:pt>
                <c:pt idx="3">
                  <c:v>10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-е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7.6</c:v>
                </c:pt>
                <c:pt idx="1">
                  <c:v>1</c:v>
                </c:pt>
                <c:pt idx="2">
                  <c:v>30.1</c:v>
                </c:pt>
                <c:pt idx="3">
                  <c:v>65.4</c:v>
                </c:pt>
              </c:numCache>
            </c:numRef>
          </c:val>
        </c:ser>
        <c:gapWidth val="150"/>
        <c:overlap val="0"/>
        <c:axId val="48247497"/>
        <c:axId val="68508048"/>
      </c:barChart>
      <c:catAx>
        <c:axId val="48247497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68508048"/>
        <c:crosses val="autoZero"/>
        <c:auto val="1"/>
        <c:lblAlgn val="ctr"/>
        <c:lblOffset val="100"/>
        <c:noMultiLvlLbl val="0"/>
      </c:catAx>
      <c:valAx>
        <c:axId val="68508048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4824749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 расходов в 2018 году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axId val="23092122"/>
        <c:axId val="49334916"/>
      </c:barChart>
      <c:catAx>
        <c:axId val="23092122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49334916"/>
        <c:auto val="1"/>
        <c:lblAlgn val="ctr"/>
        <c:lblOffset val="100"/>
        <c:noMultiLvlLbl val="0"/>
      </c:catAx>
      <c:valAx>
        <c:axId val="49334916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23092122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расходов бюджета в 2018 году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граммные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383,6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8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епрограммные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22,7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,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Программные</c:v>
                </c:pt>
                <c:pt idx="1">
                  <c:v>Не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4383.6</c:v>
                </c:pt>
                <c:pt idx="1">
                  <c:v>1922.7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государственных программ  
за 1 полугодие 2018 года,
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 финансирования государственных программ на 2018 год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9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25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80555555555556"/>
                  <c:y val="7.57956169510706E-017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222222222222223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9"/>
              <c:layout>
                <c:manualLayout>
                  <c:x val="-0.0416666666666667"/>
                  <c:y val="0.041343541390093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2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”Охрана окружающей среды и устойчивое использование природных ресурсов“ на 2016-2020 годы</c:v>
                </c:pt>
                <c:pt idx="1">
                  <c:v>”Строительство жилья“ на 2016-2020 годы</c:v>
                </c:pt>
                <c:pt idx="2">
                  <c:v>Развития транспортного комплекса Республики Беларусь на 2016-2020 годы</c:v>
                </c:pt>
                <c:pt idx="3">
                  <c:v>Развития физической культуры и спорта в Республике Беларусь на 2016-2020 годы</c:v>
                </c:pt>
                <c:pt idx="4">
                  <c:v>Развития аграрного бизнеса в Республике Беларусь на 2016 – 2020 годы</c:v>
                </c:pt>
                <c:pt idx="5">
                  <c:v>”Культура Беларуси“ на 2016 – 2020 годы</c:v>
                </c:pt>
                <c:pt idx="6">
                  <c:v>О социальной защите и содействии занятости населения на 2016-2020 годы</c:v>
                </c:pt>
                <c:pt idx="7">
                  <c:v>”Комфортное жилье и благоприятная среда“ на 2016-2020 годы</c:v>
                </c:pt>
                <c:pt idx="8">
                  <c:v>”Здоровье народа и демографическая безопасность Республики Беларусь“ на 2016-2020 годы</c:v>
                </c:pt>
                <c:pt idx="9">
                  <c:v>”Образование и молодежная политика“ на 2016-2020 г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0.6</c:v>
                </c:pt>
                <c:pt idx="1">
                  <c:v>11.9</c:v>
                </c:pt>
                <c:pt idx="2">
                  <c:v>15.8</c:v>
                </c:pt>
                <c:pt idx="3">
                  <c:v>230.6</c:v>
                </c:pt>
                <c:pt idx="4">
                  <c:v>367.5</c:v>
                </c:pt>
                <c:pt idx="5">
                  <c:v>571.8</c:v>
                </c:pt>
                <c:pt idx="6">
                  <c:v>674.2</c:v>
                </c:pt>
                <c:pt idx="7">
                  <c:v>2160</c:v>
                </c:pt>
                <c:pt idx="8">
                  <c:v>3187</c:v>
                </c:pt>
                <c:pt idx="9">
                  <c:v>7154.2</c:v>
                </c:pt>
              </c:numCache>
            </c:numRef>
          </c:val>
        </c:ser>
        <c:gapWidth val="150"/>
        <c:shape val="cylinder"/>
        <c:axId val="50403834"/>
        <c:axId val="10413960"/>
        <c:axId val="0"/>
      </c:bar3DChart>
      <c:catAx>
        <c:axId val="5040383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0413960"/>
        <c:crosses val="autoZero"/>
        <c:auto val="1"/>
        <c:lblAlgn val="ctr"/>
        <c:lblOffset val="100"/>
        <c:noMultiLvlLbl val="0"/>
      </c:catAx>
      <c:valAx>
        <c:axId val="10413960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50403834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9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Расходы консолидированного бюджета Сенненского района за I полугодие 2018 году, рублей</a:t>
            </a:r>
          </a:p>
        </c:rich>
      </c:tx>
      <c:layout>
        <c:manualLayout>
          <c:xMode val="edge"/>
          <c:yMode val="edge"/>
          <c:x val="0.105222407185165"/>
          <c:y val="0.0124970386164416"/>
        </c:manualLayout>
      </c:layout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stacked"/>
        <c:varyColors val="0"/>
        <c:ser>
          <c:idx val="0"/>
          <c:order val="0"/>
          <c:spPr>
            <a:solidFill>
              <a:srgbClr val="de6c3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Lbls>
            <c:numFmt formatCode="#,##0" sourceLinked="0"/>
            <c:dLbl>
              <c:idx val="0"/>
              <c:layout>
                <c:manualLayout>
                  <c:x val="0.0423372074154313"/>
                  <c:y val="-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491657892566298"/>
                  <c:y val="0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36571636823972"/>
                  <c:y val="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9120029155356"/>
                  <c:y val="-0.00626817420917769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Национальная оборона</c:v>
                </c:pt>
                <c:pt idx="1">
                  <c:v>Охрана окружающей среды</c:v>
                </c:pt>
                <c:pt idx="2">
                  <c:v>Национальная экономика</c:v>
                </c:pt>
                <c:pt idx="3">
                  <c:v>Физическая культура, спорт, культура и средства массовой информации</c:v>
                </c:pt>
                <c:pt idx="4">
                  <c:v>Социальная политика</c:v>
                </c:pt>
                <c:pt idx="5">
                  <c:v>Общегосударственная деятельность</c:v>
                </c:pt>
                <c:pt idx="6">
                  <c:v>Жилищно-коммунальные услуги и жилищное строительство</c:v>
                </c:pt>
                <c:pt idx="7">
                  <c:v>Здравоохранение</c:v>
                </c:pt>
                <c:pt idx="8">
                  <c:v>Образова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1</c:v>
                </c:pt>
                <c:pt idx="1">
                  <c:v>29224.45</c:v>
                </c:pt>
                <c:pt idx="2">
                  <c:v>559891.33</c:v>
                </c:pt>
                <c:pt idx="3">
                  <c:v>853264.75</c:v>
                </c:pt>
                <c:pt idx="4">
                  <c:v>926855.72</c:v>
                </c:pt>
                <c:pt idx="5">
                  <c:v>1354118.19</c:v>
                </c:pt>
                <c:pt idx="6">
                  <c:v>2172501.33</c:v>
                </c:pt>
                <c:pt idx="7">
                  <c:v>3186950.86</c:v>
                </c:pt>
                <c:pt idx="8">
                  <c:v>6972965.08</c:v>
                </c:pt>
              </c:numCache>
            </c:numRef>
          </c:val>
        </c:ser>
        <c:gapWidth val="150"/>
        <c:shape val="cylinder"/>
        <c:axId val="32860521"/>
        <c:axId val="40700298"/>
        <c:axId val="0"/>
      </c:bar3DChart>
      <c:catAx>
        <c:axId val="3286052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40700298"/>
        <c:crosses val="autoZero"/>
        <c:auto val="1"/>
        <c:lblAlgn val="ctr"/>
        <c:lblOffset val="100"/>
        <c:noMultiLvlLbl val="0"/>
      </c:catAx>
      <c:valAx>
        <c:axId val="40700298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#,##0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32860521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сходы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897326019883442"/>
          <c:y val="0.0823647140327919"/>
          <c:w val="0.808450462804251"/>
          <c:h val="0.561234700946809"/>
        </c:manualLayout>
      </c:layout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cf6da4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fa8d3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0"/>
          </c:dLbls>
          <c:cat>
            <c:strRef>
              <c:f>categories</c:f>
              <c:strCache>
                <c:ptCount val="6"/>
                <c:pt idx="0">
                  <c:v>Социальная сфера</c:v>
                </c:pt>
                <c:pt idx="1">
                  <c:v>Жилищно-коммунальные услуги и жилищное строительство</c:v>
                </c:pt>
                <c:pt idx="2">
                  <c:v>Общегосударственная деятельность</c:v>
                </c:pt>
                <c:pt idx="3">
                  <c:v>Национальная экономика</c:v>
                </c:pt>
                <c:pt idx="4">
                  <c:v>Охрана окружающей среды</c:v>
                </c:pt>
                <c:pt idx="5">
                  <c:v>Национальная оборон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940036.41</c:v>
                </c:pt>
                <c:pt idx="1">
                  <c:v>2172501.33</c:v>
                </c:pt>
                <c:pt idx="2">
                  <c:v>1354118.19</c:v>
                </c:pt>
                <c:pt idx="3">
                  <c:v>559891.33</c:v>
                </c:pt>
                <c:pt idx="4">
                  <c:v>29224.45</c:v>
                </c:pt>
                <c:pt idx="5">
                  <c:v>21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972965.08</c:v>
                </c:pt>
                <c:pt idx="1">
                  <c:v>3186950.86</c:v>
                </c:pt>
                <c:pt idx="2">
                  <c:v>853264.75</c:v>
                </c:pt>
                <c:pt idx="3">
                  <c:v>926855.72</c:v>
                </c:pt>
              </c:numCache>
            </c:numRef>
          </c:val>
        </c:ser>
        <c:ser>
          <c:idx val="1"/>
          <c:order val="1"/>
          <c:spPr>
            <a:solidFill>
              <a:srgbClr val="ac66bb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onstantia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F0A61-ED2E-497D-8961-CEB4AE6F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FE505-ACA8-417F-A803-0F04D44D35F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41E-9BEA-4841-8893-C3DCF858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0AF-C3D4-45F4-AEBA-CA5E6FB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833-BCB9-4C25-A696-30B309AB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C58-7EE9-444E-B751-73E44016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9938-7CC0-478D-B304-51E6B20C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A04-44BF-4F9E-9A53-F7D58821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4C4C-2A8B-498C-B9FC-7470735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C7FC-4285-4C2D-8673-CA21526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7D8-2FD7-4F89-B1DD-7024DF2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4CCE-F075-4D74-96DE-D72DEB8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3CA-47EC-479B-90D0-16FBC841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B2C-0AD1-4A87-876B-0D9A4D7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DE0-05B2-4F04-8AA1-E200254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855-57F7-40F2-9E5F-8201019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84ED-0D52-42D2-9B94-0B76E7D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16D7-8E57-41B7-A55C-740F188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4091-35C7-42A0-A249-DC1409C1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0207-BA06-4B5A-82A6-9F49F9ED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43B3-41EB-4BDD-AF5E-6CD928C3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C570-F91C-473B-A098-4AC48B91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EF5C-BB42-4CBC-8600-6556472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947E-5E58-4064-8AE4-991F281A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10D-57DA-48C0-AE80-BBD9E383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97D9-94E9-4DE3-AB6C-CE0ACDC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EED9-D8A0-46B0-935B-39ECF00E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19F9-1914-45B7-89AD-84CE7F1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46BE-4F2B-4FF0-8178-2142C58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3981-730B-4A99-A1DA-90609BB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AC87-25B0-4346-9569-1F33E331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9250-2AC8-4059-8FB2-93277092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9D43-2DF7-4D0D-8B73-A3822EE6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3CD6-A272-46B9-9269-EBEB1C1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7FED-EC90-4B49-B392-C587970B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94-1A13-420E-842C-60C1AA8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02C5-BD97-4AF1-A480-014D21DE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3CD8-C16D-4396-BD81-BB3B9AD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2AE0-2FE8-4D7A-B67C-2FD8284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39A0-741A-4866-988A-CB7681C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AA3B-2A65-4645-B534-85151DB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0F54-2609-439C-BC81-F192918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D74E-995B-408F-A624-173F179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DD62-C533-4750-B7D0-265B5A3A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9072-C517-41E3-9D2F-517E7BB0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CB0-8854-4F42-B7B8-89653BF9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3A7-EBBB-461D-B09A-78015CD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832-D04C-43D5-883D-71F699FA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FCB-B798-4A8E-A247-E977A3C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381-8002-48D4-A777-448760C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8BCA42-06A6-44FD-A544-69EB7D4926D7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de6c36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b83d68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ac66bb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de6c36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624448-5EBC-466D-B8E9-B9B7C62962F7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e8637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e8637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575f6d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8637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e8637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2E9FB-C2D3-4042-96D6-D45DE0DD7800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3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6DD13-5A68-4CAB-8A56-30BA6B0661A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857160" y="1071720"/>
            <a:ext cx="82864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ts val="4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Бюллетень об исполнении консолидированного бюджета Сенненского района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1 полугодие 2018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Диаграмма 3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9" name="TextBox 2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Рост платежей по доходным источникам </a:t>
            </a: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1" name="Содержимое 3"/>
          <p:cNvGraphicFramePr/>
          <p:nvPr/>
        </p:nvGraphicFramePr>
        <p:xfrm>
          <a:off x="0" y="1071720"/>
          <a:ext cx="9143640" cy="5785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2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Снижение доходных источников </a:t>
            </a:r>
            <a:br>
              <a:rPr sz="3600"/>
            </a:b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4" name="Содержимое 3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5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Диаграмма 1"/>
          <p:cNvGraphicFramePr/>
          <p:nvPr/>
        </p:nvGraphicFramePr>
        <p:xfrm>
          <a:off x="0" y="857160"/>
          <a:ext cx="9143640" cy="6000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97" name="Диаграмма 2"/>
          <p:cNvGraphicFramePr/>
          <p:nvPr/>
        </p:nvGraphicFramePr>
        <p:xfrm>
          <a:off x="0" y="1571760"/>
          <a:ext cx="9143640" cy="5285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98" name="TextBox 3"/>
          <p:cNvSpPr/>
          <p:nvPr/>
        </p:nvSpPr>
        <p:spPr>
          <a:xfrm>
            <a:off x="285840" y="785880"/>
            <a:ext cx="8572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1 полугодии 2018 года, тыс. руб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Диаграмма 1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1" name="TextBox 2"/>
          <p:cNvSpPr/>
          <p:nvPr/>
        </p:nvSpPr>
        <p:spPr>
          <a:xfrm>
            <a:off x="8001000" y="214200"/>
            <a:ext cx="114264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Диаграмма 1"/>
          <p:cNvGraphicFramePr/>
          <p:nvPr/>
        </p:nvGraphicFramePr>
        <p:xfrm>
          <a:off x="-77400" y="389880"/>
          <a:ext cx="9298800" cy="6077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3" name="TextBox 2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971640" y="836640"/>
            <a:ext cx="66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уктура расходов консолидирован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ненского района за 1 полугодие 2018 г. (в процен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Диаграмма 4"/>
          <p:cNvGraphicFramePr/>
          <p:nvPr/>
        </p:nvGraphicFramePr>
        <p:xfrm>
          <a:off x="323640" y="1772640"/>
          <a:ext cx="4200120" cy="467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06" name="Диаграмма 5"/>
          <p:cNvGraphicFramePr/>
          <p:nvPr/>
        </p:nvGraphicFramePr>
        <p:xfrm>
          <a:off x="5220000" y="1845000"/>
          <a:ext cx="3742920" cy="4628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07" name="TextBox 6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Таблица 39"/>
          <p:cNvGraphicFramePr/>
          <p:nvPr/>
        </p:nvGraphicFramePr>
        <p:xfrm>
          <a:off x="467640" y="1989000"/>
          <a:ext cx="8208720" cy="438228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19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  <a:ea typeface="Calibri"/>
                        </a:rPr>
                        <a:t>3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1701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8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2 6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</a:tbl>
          </a:graphicData>
        </a:graphic>
      </p:graphicFrame>
      <p:cxnSp>
        <p:nvCxnSpPr>
          <p:cNvPr id="209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892c4c"/>
            </a:solidFill>
            <a:round/>
          </a:ln>
        </p:spPr>
      </p:cxnSp>
      <p:sp>
        <p:nvSpPr>
          <p:cNvPr id="210" name="Rectangle 67"/>
          <p:cNvSpPr/>
          <p:nvPr/>
        </p:nvSpPr>
        <p:spPr>
          <a:xfrm>
            <a:off x="395640" y="118332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8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  <Words>197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dcterms:modified xsi:type="dcterms:W3CDTF">2018-08-01T07:39:49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